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773A7-5D73-414D-9803-4C30D0A0A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D20AE-546A-4E90-B405-3D5BC9AAF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5D63E-8186-4AE1-B915-95568B442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5BF67-2B26-4CCD-8173-61DEE7ED2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29A39-BB98-4E39-B5B8-5D78FAB77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941F0-15D9-4779-A818-56AECA3C4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DD0E1-01C3-4628-A43F-A65BEB572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D7C21-B73C-4278-9D20-970B21D79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E577F-EEEC-48E8-BA31-BB6CFBB88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63110-7E12-4385-AF9C-6F1CE6CBE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1679A-C45E-4301-B0E3-F044C82BE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7BA48-FBD0-4B6D-BBEE-20C95F8A2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C5005-7673-47A7-930F-2991B30B1A2B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134136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486900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1341360"/>
            <a:ext cx="7197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300640"/>
            <a:ext cx="74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4360" y="126828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544500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Double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68360" y="-231840"/>
            <a:ext cx="7197840" cy="3598920"/>
          </a:xfrm>
          <a:custGeom>
            <a:avLst/>
            <a:gdLst/>
            <a:ahLst/>
            <a:rect l="l" t="t" r="r" b="b"/>
            <a:pathLst>
              <a:path w="5760" h="3228">
                <a:moveTo>
                  <a:pt x="45" y="1308"/>
                </a:moveTo>
                <a:cubicBezTo>
                  <a:pt x="1636" y="1160"/>
                  <a:pt x="3228" y="1013"/>
                  <a:pt x="4037" y="1308"/>
                </a:cubicBezTo>
                <a:cubicBezTo>
                  <a:pt x="4846" y="1603"/>
                  <a:pt x="4747" y="3228"/>
                  <a:pt x="4898" y="3077"/>
                </a:cubicBezTo>
                <a:cubicBezTo>
                  <a:pt x="5049" y="2926"/>
                  <a:pt x="5760" y="802"/>
                  <a:pt x="4944" y="401"/>
                </a:cubicBezTo>
                <a:cubicBezTo>
                  <a:pt x="4128" y="0"/>
                  <a:pt x="2064" y="336"/>
                  <a:pt x="0" y="6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73408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Cu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55640" y="765000"/>
            <a:ext cx="7197840" cy="3598920"/>
          </a:xfrm>
          <a:custGeom>
            <a:avLst/>
            <a:gdLst/>
            <a:ahLst/>
            <a:rect l="l" t="t" r="r" b="b"/>
            <a:pathLst>
              <a:path w="4808" h="1406">
                <a:moveTo>
                  <a:pt x="0" y="680"/>
                </a:moveTo>
                <a:lnTo>
                  <a:pt x="2359" y="0"/>
                </a:lnTo>
                <a:lnTo>
                  <a:pt x="3583" y="1088"/>
                </a:lnTo>
                <a:lnTo>
                  <a:pt x="4128" y="453"/>
                </a:lnTo>
                <a:lnTo>
                  <a:pt x="4808" y="1406"/>
                </a:lnTo>
                <a:lnTo>
                  <a:pt x="1860" y="1224"/>
                </a:lnTo>
                <a:lnTo>
                  <a:pt x="635" y="95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51664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Free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93760" y="460440"/>
            <a:ext cx="7197480" cy="3598920"/>
          </a:xfrm>
          <a:custGeom>
            <a:avLst/>
            <a:gdLst/>
            <a:ahLst/>
            <a:rect l="l" t="t" r="r" b="b"/>
            <a:pathLst>
              <a:path w="5376" h="2830">
                <a:moveTo>
                  <a:pt x="0" y="1013"/>
                </a:moveTo>
                <a:cubicBezTo>
                  <a:pt x="30" y="967"/>
                  <a:pt x="71" y="928"/>
                  <a:pt x="110" y="889"/>
                </a:cubicBezTo>
                <a:cubicBezTo>
                  <a:pt x="120" y="879"/>
                  <a:pt x="150" y="836"/>
                  <a:pt x="158" y="828"/>
                </a:cubicBezTo>
                <a:cubicBezTo>
                  <a:pt x="184" y="802"/>
                  <a:pt x="215" y="783"/>
                  <a:pt x="247" y="766"/>
                </a:cubicBezTo>
                <a:cubicBezTo>
                  <a:pt x="268" y="734"/>
                  <a:pt x="319" y="710"/>
                  <a:pt x="357" y="697"/>
                </a:cubicBezTo>
                <a:cubicBezTo>
                  <a:pt x="421" y="714"/>
                  <a:pt x="533" y="819"/>
                  <a:pt x="583" y="855"/>
                </a:cubicBezTo>
                <a:cubicBezTo>
                  <a:pt x="668" y="917"/>
                  <a:pt x="741" y="962"/>
                  <a:pt x="844" y="979"/>
                </a:cubicBezTo>
                <a:cubicBezTo>
                  <a:pt x="873" y="990"/>
                  <a:pt x="900" y="996"/>
                  <a:pt x="926" y="1013"/>
                </a:cubicBezTo>
                <a:cubicBezTo>
                  <a:pt x="952" y="1050"/>
                  <a:pt x="936" y="1065"/>
                  <a:pt x="953" y="1109"/>
                </a:cubicBezTo>
                <a:cubicBezTo>
                  <a:pt x="960" y="1127"/>
                  <a:pt x="981" y="1135"/>
                  <a:pt x="994" y="1150"/>
                </a:cubicBezTo>
                <a:cubicBezTo>
                  <a:pt x="1037" y="1200"/>
                  <a:pt x="1060" y="1230"/>
                  <a:pt x="1125" y="1246"/>
                </a:cubicBezTo>
                <a:cubicBezTo>
                  <a:pt x="1161" y="1240"/>
                  <a:pt x="1171" y="1243"/>
                  <a:pt x="1200" y="1219"/>
                </a:cubicBezTo>
                <a:cubicBezTo>
                  <a:pt x="1215" y="1207"/>
                  <a:pt x="1223" y="1185"/>
                  <a:pt x="1241" y="1177"/>
                </a:cubicBezTo>
                <a:cubicBezTo>
                  <a:pt x="1284" y="1157"/>
                  <a:pt x="1322" y="1128"/>
                  <a:pt x="1365" y="1109"/>
                </a:cubicBezTo>
                <a:cubicBezTo>
                  <a:pt x="1387" y="1099"/>
                  <a:pt x="1412" y="1094"/>
                  <a:pt x="1433" y="1081"/>
                </a:cubicBezTo>
                <a:cubicBezTo>
                  <a:pt x="1463" y="1062"/>
                  <a:pt x="1487" y="1034"/>
                  <a:pt x="1516" y="1013"/>
                </a:cubicBezTo>
                <a:cubicBezTo>
                  <a:pt x="1537" y="998"/>
                  <a:pt x="1562" y="987"/>
                  <a:pt x="1584" y="972"/>
                </a:cubicBezTo>
                <a:cubicBezTo>
                  <a:pt x="1617" y="948"/>
                  <a:pt x="1648" y="921"/>
                  <a:pt x="1680" y="896"/>
                </a:cubicBezTo>
                <a:cubicBezTo>
                  <a:pt x="1719" y="865"/>
                  <a:pt x="1785" y="788"/>
                  <a:pt x="1831" y="773"/>
                </a:cubicBezTo>
                <a:cubicBezTo>
                  <a:pt x="1875" y="853"/>
                  <a:pt x="1941" y="918"/>
                  <a:pt x="1982" y="999"/>
                </a:cubicBezTo>
                <a:cubicBezTo>
                  <a:pt x="1999" y="1034"/>
                  <a:pt x="2009" y="1072"/>
                  <a:pt x="2023" y="1109"/>
                </a:cubicBezTo>
                <a:cubicBezTo>
                  <a:pt x="2028" y="1141"/>
                  <a:pt x="2040" y="1173"/>
                  <a:pt x="2037" y="1205"/>
                </a:cubicBezTo>
                <a:cubicBezTo>
                  <a:pt x="2027" y="1302"/>
                  <a:pt x="2007" y="1399"/>
                  <a:pt x="1982" y="1493"/>
                </a:cubicBezTo>
                <a:cubicBezTo>
                  <a:pt x="1942" y="1640"/>
                  <a:pt x="1640" y="1791"/>
                  <a:pt x="1543" y="1849"/>
                </a:cubicBezTo>
                <a:cubicBezTo>
                  <a:pt x="1343" y="1969"/>
                  <a:pt x="1522" y="1863"/>
                  <a:pt x="1324" y="2000"/>
                </a:cubicBezTo>
                <a:cubicBezTo>
                  <a:pt x="1180" y="2099"/>
                  <a:pt x="1040" y="2184"/>
                  <a:pt x="933" y="2329"/>
                </a:cubicBezTo>
                <a:cubicBezTo>
                  <a:pt x="937" y="2343"/>
                  <a:pt x="934" y="2363"/>
                  <a:pt x="946" y="2371"/>
                </a:cubicBezTo>
                <a:cubicBezTo>
                  <a:pt x="974" y="2389"/>
                  <a:pt x="1011" y="2386"/>
                  <a:pt x="1042" y="2398"/>
                </a:cubicBezTo>
                <a:cubicBezTo>
                  <a:pt x="1163" y="2444"/>
                  <a:pt x="1280" y="2500"/>
                  <a:pt x="1399" y="2549"/>
                </a:cubicBezTo>
                <a:cubicBezTo>
                  <a:pt x="1619" y="2639"/>
                  <a:pt x="1836" y="2750"/>
                  <a:pt x="2071" y="2796"/>
                </a:cubicBezTo>
                <a:cubicBezTo>
                  <a:pt x="2104" y="2803"/>
                  <a:pt x="2347" y="2822"/>
                  <a:pt x="2359" y="2823"/>
                </a:cubicBezTo>
                <a:cubicBezTo>
                  <a:pt x="2469" y="2816"/>
                  <a:pt x="2584" y="2830"/>
                  <a:pt x="2688" y="2796"/>
                </a:cubicBezTo>
                <a:cubicBezTo>
                  <a:pt x="2908" y="2723"/>
                  <a:pt x="2992" y="2491"/>
                  <a:pt x="3086" y="2302"/>
                </a:cubicBezTo>
                <a:cubicBezTo>
                  <a:pt x="3136" y="2202"/>
                  <a:pt x="3213" y="2105"/>
                  <a:pt x="3278" y="2014"/>
                </a:cubicBezTo>
                <a:cubicBezTo>
                  <a:pt x="3408" y="1833"/>
                  <a:pt x="3551" y="1644"/>
                  <a:pt x="3703" y="1479"/>
                </a:cubicBezTo>
                <a:cubicBezTo>
                  <a:pt x="3744" y="1434"/>
                  <a:pt x="3796" y="1399"/>
                  <a:pt x="3833" y="1349"/>
                </a:cubicBezTo>
                <a:cubicBezTo>
                  <a:pt x="3810" y="1227"/>
                  <a:pt x="3775" y="1238"/>
                  <a:pt x="3676" y="1177"/>
                </a:cubicBezTo>
                <a:cubicBezTo>
                  <a:pt x="3565" y="1108"/>
                  <a:pt x="3483" y="1038"/>
                  <a:pt x="3360" y="999"/>
                </a:cubicBezTo>
                <a:cubicBezTo>
                  <a:pt x="3104" y="918"/>
                  <a:pt x="2860" y="890"/>
                  <a:pt x="2592" y="883"/>
                </a:cubicBezTo>
                <a:cubicBezTo>
                  <a:pt x="2871" y="839"/>
                  <a:pt x="2402" y="910"/>
                  <a:pt x="3093" y="841"/>
                </a:cubicBezTo>
                <a:cubicBezTo>
                  <a:pt x="3213" y="829"/>
                  <a:pt x="3228" y="807"/>
                  <a:pt x="3340" y="787"/>
                </a:cubicBezTo>
                <a:cubicBezTo>
                  <a:pt x="3513" y="756"/>
                  <a:pt x="3690" y="740"/>
                  <a:pt x="3861" y="697"/>
                </a:cubicBezTo>
                <a:cubicBezTo>
                  <a:pt x="3967" y="628"/>
                  <a:pt x="4066" y="552"/>
                  <a:pt x="4169" y="478"/>
                </a:cubicBezTo>
                <a:cubicBezTo>
                  <a:pt x="4241" y="426"/>
                  <a:pt x="4306" y="352"/>
                  <a:pt x="4389" y="313"/>
                </a:cubicBezTo>
                <a:cubicBezTo>
                  <a:pt x="4510" y="256"/>
                  <a:pt x="4638" y="218"/>
                  <a:pt x="4759" y="163"/>
                </a:cubicBezTo>
                <a:cubicBezTo>
                  <a:pt x="4838" y="127"/>
                  <a:pt x="4917" y="59"/>
                  <a:pt x="4999" y="32"/>
                </a:cubicBezTo>
                <a:cubicBezTo>
                  <a:pt x="5047" y="104"/>
                  <a:pt x="5091" y="182"/>
                  <a:pt x="5143" y="252"/>
                </a:cubicBezTo>
                <a:cubicBezTo>
                  <a:pt x="5180" y="302"/>
                  <a:pt x="5231" y="331"/>
                  <a:pt x="5260" y="389"/>
                </a:cubicBezTo>
                <a:cubicBezTo>
                  <a:pt x="5241" y="481"/>
                  <a:pt x="5187" y="545"/>
                  <a:pt x="5164" y="636"/>
                </a:cubicBezTo>
                <a:cubicBezTo>
                  <a:pt x="5115" y="832"/>
                  <a:pt x="5153" y="709"/>
                  <a:pt x="5122" y="883"/>
                </a:cubicBezTo>
                <a:cubicBezTo>
                  <a:pt x="5115" y="924"/>
                  <a:pt x="5103" y="965"/>
                  <a:pt x="5095" y="1006"/>
                </a:cubicBezTo>
                <a:cubicBezTo>
                  <a:pt x="5085" y="1056"/>
                  <a:pt x="5068" y="1157"/>
                  <a:pt x="5068" y="1157"/>
                </a:cubicBezTo>
                <a:cubicBezTo>
                  <a:pt x="5070" y="1191"/>
                  <a:pt x="5069" y="1226"/>
                  <a:pt x="5074" y="1260"/>
                </a:cubicBezTo>
                <a:cubicBezTo>
                  <a:pt x="5080" y="1300"/>
                  <a:pt x="5125" y="1334"/>
                  <a:pt x="5150" y="1363"/>
                </a:cubicBezTo>
                <a:cubicBezTo>
                  <a:pt x="5164" y="1379"/>
                  <a:pt x="5169" y="1402"/>
                  <a:pt x="5184" y="1417"/>
                </a:cubicBezTo>
                <a:cubicBezTo>
                  <a:pt x="5198" y="1431"/>
                  <a:pt x="5220" y="1436"/>
                  <a:pt x="5232" y="1452"/>
                </a:cubicBezTo>
                <a:cubicBezTo>
                  <a:pt x="5266" y="1496"/>
                  <a:pt x="5289" y="1543"/>
                  <a:pt x="5328" y="1582"/>
                </a:cubicBezTo>
                <a:cubicBezTo>
                  <a:pt x="5340" y="1617"/>
                  <a:pt x="5364" y="1643"/>
                  <a:pt x="5376" y="1678"/>
                </a:cubicBezTo>
                <a:cubicBezTo>
                  <a:pt x="5369" y="1708"/>
                  <a:pt x="5372" y="1741"/>
                  <a:pt x="5356" y="1767"/>
                </a:cubicBezTo>
                <a:cubicBezTo>
                  <a:pt x="5326" y="1815"/>
                  <a:pt x="5267" y="1841"/>
                  <a:pt x="5239" y="1891"/>
                </a:cubicBezTo>
                <a:cubicBezTo>
                  <a:pt x="5224" y="1918"/>
                  <a:pt x="5213" y="1946"/>
                  <a:pt x="5198" y="1973"/>
                </a:cubicBezTo>
                <a:cubicBezTo>
                  <a:pt x="5160" y="2040"/>
                  <a:pt x="5095" y="2097"/>
                  <a:pt x="5047" y="2158"/>
                </a:cubicBezTo>
                <a:cubicBezTo>
                  <a:pt x="5032" y="2204"/>
                  <a:pt x="4983" y="2101"/>
                  <a:pt x="4944" y="2069"/>
                </a:cubicBezTo>
                <a:cubicBezTo>
                  <a:pt x="4756" y="1915"/>
                  <a:pt x="4930" y="2033"/>
                  <a:pt x="4601" y="1849"/>
                </a:cubicBezTo>
                <a:cubicBezTo>
                  <a:pt x="4554" y="1823"/>
                  <a:pt x="4499" y="1816"/>
                  <a:pt x="4450" y="1795"/>
                </a:cubicBezTo>
                <a:cubicBezTo>
                  <a:pt x="4261" y="1715"/>
                  <a:pt x="4081" y="1620"/>
                  <a:pt x="3888" y="1548"/>
                </a:cubicBezTo>
                <a:cubicBezTo>
                  <a:pt x="3759" y="1440"/>
                  <a:pt x="3649" y="1366"/>
                  <a:pt x="3559" y="1219"/>
                </a:cubicBezTo>
                <a:cubicBezTo>
                  <a:pt x="3515" y="1147"/>
                  <a:pt x="3511" y="1107"/>
                  <a:pt x="3477" y="1027"/>
                </a:cubicBezTo>
                <a:cubicBezTo>
                  <a:pt x="3379" y="797"/>
                  <a:pt x="3259" y="566"/>
                  <a:pt x="3010" y="485"/>
                </a:cubicBezTo>
                <a:cubicBezTo>
                  <a:pt x="2908" y="406"/>
                  <a:pt x="2800" y="357"/>
                  <a:pt x="2695" y="286"/>
                </a:cubicBezTo>
                <a:cubicBezTo>
                  <a:pt x="2665" y="266"/>
                  <a:pt x="2643" y="237"/>
                  <a:pt x="2613" y="217"/>
                </a:cubicBezTo>
                <a:cubicBezTo>
                  <a:pt x="2426" y="93"/>
                  <a:pt x="2202" y="38"/>
                  <a:pt x="1982" y="12"/>
                </a:cubicBezTo>
                <a:cubicBezTo>
                  <a:pt x="1919" y="20"/>
                  <a:pt x="1817" y="0"/>
                  <a:pt x="1797" y="60"/>
                </a:cubicBezTo>
                <a:cubicBezTo>
                  <a:pt x="1782" y="104"/>
                  <a:pt x="1769" y="197"/>
                  <a:pt x="1769" y="197"/>
                </a:cubicBezTo>
                <a:cubicBezTo>
                  <a:pt x="1776" y="220"/>
                  <a:pt x="1812" y="348"/>
                  <a:pt x="1824" y="375"/>
                </a:cubicBezTo>
                <a:cubicBezTo>
                  <a:pt x="1885" y="511"/>
                  <a:pt x="1848" y="378"/>
                  <a:pt x="1893" y="512"/>
                </a:cubicBezTo>
                <a:cubicBezTo>
                  <a:pt x="2000" y="831"/>
                  <a:pt x="1839" y="399"/>
                  <a:pt x="1961" y="691"/>
                </a:cubicBezTo>
                <a:cubicBezTo>
                  <a:pt x="1976" y="727"/>
                  <a:pt x="1980" y="768"/>
                  <a:pt x="2002" y="800"/>
                </a:cubicBezTo>
                <a:cubicBezTo>
                  <a:pt x="2045" y="861"/>
                  <a:pt x="2101" y="913"/>
                  <a:pt x="2146" y="972"/>
                </a:cubicBezTo>
                <a:cubicBezTo>
                  <a:pt x="2172" y="1006"/>
                  <a:pt x="2189" y="1047"/>
                  <a:pt x="2215" y="1081"/>
                </a:cubicBezTo>
                <a:cubicBezTo>
                  <a:pt x="2296" y="1185"/>
                  <a:pt x="2411" y="1254"/>
                  <a:pt x="2517" y="1328"/>
                </a:cubicBezTo>
                <a:cubicBezTo>
                  <a:pt x="2566" y="1362"/>
                  <a:pt x="2509" y="1340"/>
                  <a:pt x="2558" y="1356"/>
                </a:cubicBezTo>
                <a:cubicBezTo>
                  <a:pt x="2455" y="1366"/>
                  <a:pt x="2372" y="1340"/>
                  <a:pt x="2270" y="1321"/>
                </a:cubicBezTo>
                <a:cubicBezTo>
                  <a:pt x="2092" y="1287"/>
                  <a:pt x="1902" y="1250"/>
                  <a:pt x="1721" y="1239"/>
                </a:cubicBezTo>
                <a:cubicBezTo>
                  <a:pt x="1470" y="1224"/>
                  <a:pt x="1218" y="1221"/>
                  <a:pt x="967" y="1212"/>
                </a:cubicBezTo>
                <a:cubicBezTo>
                  <a:pt x="839" y="1183"/>
                  <a:pt x="710" y="1161"/>
                  <a:pt x="583" y="1129"/>
                </a:cubicBezTo>
                <a:cubicBezTo>
                  <a:pt x="500" y="1082"/>
                  <a:pt x="420" y="1043"/>
                  <a:pt x="329" y="1013"/>
                </a:cubicBezTo>
                <a:cubicBezTo>
                  <a:pt x="283" y="966"/>
                  <a:pt x="307" y="997"/>
                  <a:pt x="274" y="910"/>
                </a:cubicBezTo>
                <a:cubicBezTo>
                  <a:pt x="259" y="870"/>
                  <a:pt x="122" y="864"/>
                  <a:pt x="96" y="862"/>
                </a:cubicBezTo>
                <a:cubicBezTo>
                  <a:pt x="162" y="818"/>
                  <a:pt x="214" y="768"/>
                  <a:pt x="261" y="704"/>
                </a:cubicBezTo>
                <a:cubicBezTo>
                  <a:pt x="271" y="691"/>
                  <a:pt x="279" y="677"/>
                  <a:pt x="288" y="663"/>
                </a:cubicBezTo>
                <a:cubicBezTo>
                  <a:pt x="293" y="656"/>
                  <a:pt x="302" y="643"/>
                  <a:pt x="302" y="643"/>
                </a:cubicBezTo>
                <a:cubicBezTo>
                  <a:pt x="309" y="623"/>
                  <a:pt x="316" y="581"/>
                  <a:pt x="316" y="58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Scrib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13:37:58Z</dcterms:created>
  <dc:creator>tb121644</dc:creator>
  <dc:description/>
  <dc:language>en-US</dc:language>
  <cp:lastModifiedBy>tb121644</cp:lastModifiedBy>
  <dcterms:modified xsi:type="dcterms:W3CDTF">2005-05-17T13:38:32Z</dcterms:modified>
  <cp:revision>1</cp:revision>
  <dc:subject/>
  <dc:title>Slide 1</dc:title>
</cp:coreProperties>
</file>