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20132"/>
        <c:axId val="88551863"/>
      </c:barChart>
      <c:catAx>
        <c:axId val="92220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51863"/>
        <c:crosses val="autoZero"/>
        <c:auto val="1"/>
        <c:lblAlgn val="ctr"/>
        <c:lblOffset val="100"/>
        <c:noMultiLvlLbl val="0"/>
      </c:catAx>
      <c:valAx>
        <c:axId val="88551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20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F51-43F5-4ABB-BCD0-8E3521CD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2A2-98A5-4B28-AFF0-48791D15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7CD-94CF-43DB-89FB-C8ED3B9D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148-C30B-477C-AA0E-E5115225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92F-4DBE-4082-902C-D0AF6DF2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45F-4D9D-49F1-AEFD-AD7D6F50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ED8-3B21-4601-8033-FB0A8408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99E-9624-49A6-A6BE-6D61C79D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D98-766D-454A-B803-B20A3F56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89B7-027E-459F-81E5-4BABDF97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58F-0726-42EE-82CC-BEED0188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E85-EA3E-409A-A381-D9CF426C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E2EC2-583A-4CE8-B44A-76F61700A9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