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91680"/>
        <c:axId val="5941680"/>
      </c:barChart>
      <c:catAx>
        <c:axId val="59091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1680"/>
        <c:crosses val="autoZero"/>
        <c:auto val="1"/>
        <c:lblAlgn val="ctr"/>
        <c:lblOffset val="100"/>
        <c:noMultiLvlLbl val="0"/>
      </c:catAx>
      <c:valAx>
        <c:axId val="5941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91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E9C-1613-46CB-ADF4-D26D1906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C9F-F12D-40F8-A7D2-B265C6D4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1C3-2EE5-47F9-8A42-0884DBE2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2B4-95B4-4542-AA5A-F50E7B7A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B88-5F54-4E87-BE07-1B6035CD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D0B-D453-4F9B-B50C-22204CD9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BD6-F16A-4B0E-ACBB-08371A68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E05-831B-4504-8E33-DAE7123D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E14-4C5C-42D8-B188-169BF8BD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E05-7C31-4670-8DBF-7422653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656-4EC7-41DD-BFDA-8E8497DB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4E3-E41D-43B0-837B-1557A022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E576D-1C5C-46B8-A96B-89730B91B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