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4512020"/>
        <c:axId val="41499200"/>
      </c:barChart>
      <c:catAx>
        <c:axId val="2451202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499200"/>
        <c:crosses val="autoZero"/>
        <c:auto val="1"/>
        <c:lblAlgn val="ctr"/>
        <c:lblOffset val="100"/>
        <c:noMultiLvlLbl val="0"/>
      </c:catAx>
      <c:valAx>
        <c:axId val="4149920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51202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C7E0-5180-4EDB-B9AE-AB1412BFA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8206-6D51-4255-ACD0-5BDBD0981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EB05-EECF-47C7-9804-FFC54695E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6DBB-034F-4F07-9E7A-6EE9A9762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DA02-E054-4532-8634-1DE27A0DE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B48F-E509-4A4D-82C2-4F808063C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0A6A-B3EC-4D3E-814B-F67541DE1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E5CB-63EF-4297-A15A-EABA83155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3DAB-C973-428B-95F2-7BB44230C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2122-C1F8-42F7-B0AD-3ED553E8C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9D15-2A84-43A5-B9C9-CFBEB7790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F126-9258-4294-B7E2-BE4EF64D7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035E12-3775-42C3-9075-E8AA7740A3E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