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8856"/>
        <c:axId val="16396"/>
      </c:barChart>
      <c:catAx>
        <c:axId val="3598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96"/>
        <c:crosses val="autoZero"/>
        <c:auto val="1"/>
        <c:lblAlgn val="ctr"/>
        <c:lblOffset val="100"/>
        <c:noMultiLvlLbl val="0"/>
      </c:catAx>
      <c:valAx>
        <c:axId val="16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8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414-91B7-4225-9E65-2C15F0C1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921-8EB0-4126-BD85-4F107328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401-A93E-4F98-B96E-F7413AAF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688-590F-47C7-BCA9-32B19988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8FB-54D4-47A9-8F45-7B72E992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CD0-CC83-4EEB-A7DA-873B5416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7E4-11A2-406F-B68C-580ABBE4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018-409F-4ADA-8651-38A8F467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DCC-508A-4554-BB99-C6181541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BE5-064C-4CD1-839A-C585E72C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A5E-B4DB-4D18-BF8A-F870F124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37CA-A87A-4ACE-97B8-CFCCBCD5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0590F-658B-4CD9-B007-82F3FE7792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