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48093"/>
        <c:axId val="78775959"/>
      </c:barChart>
      <c:catAx>
        <c:axId val="90948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5959"/>
        <c:crosses val="autoZero"/>
        <c:auto val="1"/>
        <c:lblAlgn val="ctr"/>
        <c:lblOffset val="100"/>
        <c:noMultiLvlLbl val="0"/>
      </c:catAx>
      <c:valAx>
        <c:axId val="78775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48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0D0-B5E9-4CD2-B6BA-1E69B5FD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86B-7BC3-45EE-94A6-F31672B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184-7DB1-401A-A5C9-A648ECE9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540-66D4-4CA5-92D4-CF3B197B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6AC-0119-4B91-98D7-34419314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C22-C0D7-4AD7-8514-C21DD8E0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5B6-D74A-4A10-A18A-60E5043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CC1-5188-40B7-8031-C5D0673E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859-4E77-4B7E-A954-57FAB7EC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EE1-A6BC-4362-8913-D92CB04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D62-4C6E-458B-9315-71C57364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55F-3268-4455-8224-854DB090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A26D-5C60-4B7B-A0D6-4B2D9A0D9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