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14475"/>
        <c:axId val="61461783"/>
      </c:barChart>
      <c:catAx>
        <c:axId val="88114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61783"/>
        <c:crosses val="autoZero"/>
        <c:auto val="1"/>
        <c:lblAlgn val="ctr"/>
        <c:lblOffset val="100"/>
        <c:noMultiLvlLbl val="0"/>
      </c:catAx>
      <c:valAx>
        <c:axId val="61461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14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2DB-BF85-41DE-BDDD-8BE91C0C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299-B70B-42A4-AE30-6F717683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EAD-11C6-4481-B6AA-9CAFA8A4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BC4-9AB0-4106-AEFA-71BC1F7F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E3E-3FDA-4787-B6C5-373E9746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05F-BA49-4EC5-B3FC-5C161775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F27-7E96-459C-BA4B-2A9ED4D2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BA5-25E4-4BB9-BB34-F5F991F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2BD-2938-41E4-97FD-0767F1D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38B-127A-4CD8-8377-5FBA2D21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2DC-FBC5-443D-B8C8-7F4746A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948-AE2F-419E-9979-DEAAC50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CEE90-ECFB-4C4C-B746-43FAF6448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