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47045"/>
        <c:axId val="63067269"/>
      </c:barChart>
      <c:catAx>
        <c:axId val="26447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67269"/>
        <c:crosses val="autoZero"/>
        <c:auto val="1"/>
        <c:lblAlgn val="ctr"/>
        <c:lblOffset val="100"/>
        <c:noMultiLvlLbl val="0"/>
      </c:catAx>
      <c:valAx>
        <c:axId val="63067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47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456-55DA-404F-AF37-AE40D20E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1860-C66A-458A-ABD3-5BDF2DA0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5FB2-53D9-4652-BFEC-DD932DDA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E55-D823-4396-8D32-9936EAA5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237-FDF8-43CB-9629-05218B7D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905-3B91-4E57-83BF-53C04AA5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B66-08D8-4341-8004-36D27FC6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113-C8A4-4FCB-910A-96D7D10F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491-8314-4D4B-BEDF-5BDDB699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438-4F6B-402D-9EAC-CCB35F89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0670-3CD0-4340-A5E7-EFB4A9E5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040C-608A-43B4-B617-8E3E21BA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CC108-EFAE-4960-BCF4-7B91FEDFB8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