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01530"/>
        <c:axId val="70189644"/>
      </c:barChart>
      <c:catAx>
        <c:axId val="86001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89644"/>
        <c:crosses val="autoZero"/>
        <c:auto val="1"/>
        <c:lblAlgn val="ctr"/>
        <c:lblOffset val="100"/>
        <c:noMultiLvlLbl val="0"/>
      </c:catAx>
      <c:valAx>
        <c:axId val="70189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01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91B-4CDC-4B2F-B44B-59086EC5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862-546E-425E-ACB2-3D8166D4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6A2-A3C8-482E-825C-4E738ED1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26B-4232-44C4-8B09-CAC71B55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4AE-F5F4-4C43-A071-4F41575B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41F-F55A-4807-B238-E605311A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E49-8270-4C03-A5A4-B598055F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3DA-7163-4FD1-A241-A8FB9DDE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7191-5F50-4988-A154-96417A8C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CBE-BE97-4974-BF6F-9482BD08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0B8-A786-4664-8913-56FE2672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85C-CA39-42AA-9F89-F6BD7A12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83444-6BCC-4F2F-8766-8D22CD1AE5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