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46412"/>
        <c:axId val="15464579"/>
      </c:barChart>
      <c:catAx>
        <c:axId val="75646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64579"/>
        <c:crosses val="autoZero"/>
        <c:auto val="1"/>
        <c:lblAlgn val="ctr"/>
        <c:lblOffset val="100"/>
        <c:noMultiLvlLbl val="0"/>
      </c:catAx>
      <c:valAx>
        <c:axId val="15464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46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9EE-C364-4CA1-8F07-20B42900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FA6-F65C-4A09-825D-3C0E220C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E34-E16E-4E5E-8E7F-1A44D3AB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9D5-7EBC-4440-8CC1-299E9F8B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1CA-8271-4152-8609-2AD5F675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6BD-392D-445F-8661-C0D53919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B2D-504D-4436-BC6F-B4DFE546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700-70E4-424C-AD2F-E7002CCE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169-56D1-4B60-A5B9-4DE8662A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0DA-B1BF-4CA3-869B-6CBD325D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DAD-3649-4B76-BAF2-FCE7F253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7FE-4932-4CF3-8EDF-58F6579A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38E5B-24A2-4567-BF02-23B2B28A75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