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652824"/>
        <c:axId val="78622728"/>
      </c:barChart>
      <c:catAx>
        <c:axId val="396528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22728"/>
        <c:crosses val="autoZero"/>
        <c:auto val="1"/>
        <c:lblAlgn val="ctr"/>
        <c:lblOffset val="100"/>
        <c:noMultiLvlLbl val="0"/>
      </c:catAx>
      <c:valAx>
        <c:axId val="786227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528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371E-1696-499E-B98A-F8F6A169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B09-5612-4F67-8E56-F7892EAE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1489-AFB5-4D98-A18E-5B8C78E8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A53-176F-485B-962C-F25DA6E5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939A-4449-4FB8-B669-13802141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1A8-278A-40B2-9364-82D5E3A5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B1B6-0E65-4CA8-9249-EC5B5388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28D3-D263-40E2-A8A9-4233E8E3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1580-E28B-4C05-9F68-DE2584FA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2335-6107-4AA5-885D-52B3D387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B30-7067-4460-A34C-9F30FD71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2FC2-5ECD-4AC2-A5A7-2473DFAA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A90B4-AF2F-4B07-9019-E32483941D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