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35719"/>
        <c:axId val="75524554"/>
      </c:barChart>
      <c:catAx>
        <c:axId val="89135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24554"/>
        <c:crosses val="autoZero"/>
        <c:auto val="1"/>
        <c:lblAlgn val="ctr"/>
        <c:lblOffset val="100"/>
        <c:noMultiLvlLbl val="0"/>
      </c:catAx>
      <c:valAx>
        <c:axId val="75524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35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EF2-5866-4A7C-9FD6-C2555E86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9D9-5ECF-47E6-A7C9-C2153469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D0D-BB50-4905-B307-9B04EF9B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F6B-B20B-4EC5-8248-490A3CE5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ECA-BB49-4988-AB13-BB0F9B0C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5DF-9D4D-4BAE-A4E0-AA8394B5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F68-FEB7-4100-9BD7-712819CF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B72-87C8-4FE1-8A0F-0664EB26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252-C99F-4BCB-9D78-1E2879D0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B74-3696-49B2-B9FD-71EE0724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BE8-31F8-48F6-909C-B72EEB00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548-1B24-4A23-91C5-00192EE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C68F7-0609-476F-8BFF-DBE1BDAB2C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