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773086"/>
        <c:axId val="95796792"/>
      </c:barChart>
      <c:catAx>
        <c:axId val="467730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796792"/>
        <c:crosses val="autoZero"/>
        <c:auto val="1"/>
        <c:lblAlgn val="ctr"/>
        <c:lblOffset val="100"/>
        <c:noMultiLvlLbl val="0"/>
      </c:catAx>
      <c:valAx>
        <c:axId val="957967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730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6768-06E6-4021-8D62-3C9799CA0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F600-37C0-430D-B469-44007891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1E45-600A-4705-91FC-928B1C3E4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AFE1-5F8A-416F-8B53-570467A2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4E24-BF9A-4744-A78B-338DB5D5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20E3-D08C-4941-AA91-4E86395B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396A-B1D1-4D74-A148-8834018A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15E3-91FA-4C5D-9178-96C8E560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A23C-D1ED-4B16-9E4E-DEC8A547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E127-B661-4F13-A35B-65C54159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B702-C4DE-4E9F-AE92-51136BD6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8CE8-2A3A-42C6-97D1-B6A96E55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4EAD1-CB4D-4027-A113-3519EBFC23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