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69600"/>
        <c:axId val="28232200"/>
      </c:barChart>
      <c:catAx>
        <c:axId val="67369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32200"/>
        <c:crosses val="autoZero"/>
        <c:auto val="1"/>
        <c:lblAlgn val="ctr"/>
        <c:lblOffset val="100"/>
        <c:noMultiLvlLbl val="0"/>
      </c:catAx>
      <c:valAx>
        <c:axId val="28232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69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870-3E87-4F5A-A1E1-EECE68A9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C3F5-90F4-47B0-AD4D-8A9438AF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AB1-1651-40FA-AAB2-FB475A49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1A2-D587-41A3-BE73-104E4C8D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F91-085E-4D69-B394-CD059A69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768-CC6D-402D-BD10-D61DA64F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DF5-4A25-46E2-9352-6FA201B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018-A2ED-46E1-B060-231EE3C2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C39-D270-4AF3-B0C2-6FA3BC89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776-C5F2-4004-B6AC-41FCD76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89F-FEE3-4C28-916A-41636DAF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97B-6578-49B7-A6BD-E4545D4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03501-75C1-478C-B745-B5730E3DA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