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9351"/>
        <c:axId val="22654161"/>
      </c:barChart>
      <c:catAx>
        <c:axId val="4529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54161"/>
        <c:crosses val="autoZero"/>
        <c:auto val="1"/>
        <c:lblAlgn val="ctr"/>
        <c:lblOffset val="100"/>
        <c:noMultiLvlLbl val="0"/>
      </c:catAx>
      <c:valAx>
        <c:axId val="22654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9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7DE-0A66-4FC7-9F3B-CDF4CE28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9ECC-8F0D-4C23-860E-0EDF5B0D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4BC-4569-49A2-A240-EE8973F6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600-6A2D-4ADA-8129-F01EAD45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769-4A5E-47A8-ABEA-9D6A5778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7A9-F0B5-4520-B212-14796DB5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8FA5-DC74-4FBE-82F8-4740AE4D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95D-EA9E-461E-B4F0-AF628A3D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054-2F68-4700-87C5-D1E99CA8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160-B974-47CF-B209-DE7CBC49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BAE-AD4D-484E-B908-F0A494E1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D2A-6CAE-46DF-AC41-DE8107B9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BBB54-68BB-4A9C-9051-424BF6D7CA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