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1870"/>
        <c:axId val="48912714"/>
      </c:barChart>
      <c:catAx>
        <c:axId val="6991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12714"/>
        <c:crosses val="autoZero"/>
        <c:auto val="1"/>
        <c:lblAlgn val="ctr"/>
        <c:lblOffset val="100"/>
        <c:noMultiLvlLbl val="0"/>
      </c:catAx>
      <c:valAx>
        <c:axId val="489127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1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18C-B2DB-4E1D-8498-B56DF660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6DB-B5A9-4227-A2E1-F601ED4F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B6B-3554-4F53-B8C4-53487397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5DB-EA54-4ECE-AADF-399589AD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4A5-E3C6-4B55-9AE8-77C02A87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668-6D2E-4F87-8902-941BFE07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A17-EDD1-4B85-81A9-50B05F66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A5A-F9BC-45BD-AD56-2164D91D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5F9-EF98-4CFD-B12D-CDC68356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A09-3245-499A-B5C5-D272ECED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C4E-9B06-4A33-BDB4-0F4E5E09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B344-8E6F-4712-89FE-8046C5EF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EC479-6808-477A-8E8A-69FA6D23D8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