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106159"/>
        <c:axId val="33638681"/>
      </c:barChart>
      <c:catAx>
        <c:axId val="441061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38681"/>
        <c:crosses val="autoZero"/>
        <c:auto val="1"/>
        <c:lblAlgn val="ctr"/>
        <c:lblOffset val="100"/>
        <c:noMultiLvlLbl val="0"/>
      </c:catAx>
      <c:valAx>
        <c:axId val="336386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061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E384-45F1-450F-A472-408E2E3E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B630-AF90-4816-9631-F8D35446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308D-BF01-4D6F-9C74-FF1DDB14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CA77-1C9C-49CD-9930-57FF6DD80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AD8D-1ECD-4538-80AC-1B4B5DAD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4DD2-BDCA-449A-9AD2-2C87D944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2972-B592-415A-A416-1C13EC68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6405-7BD9-4616-99F2-C3738E15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B27A-1341-4115-BF6C-FFF41C37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2A7F-2541-4672-84B3-9CE5112A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2112-2A9B-46AB-88B0-79BFEE5C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8637-EEBD-42F3-95A2-20BAC9C5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C58FF-2C9A-4717-84A9-DDC66ABFE1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