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60045"/>
        <c:axId val="41032043"/>
      </c:barChart>
      <c:catAx>
        <c:axId val="78660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32043"/>
        <c:crosses val="autoZero"/>
        <c:auto val="1"/>
        <c:lblAlgn val="ctr"/>
        <c:lblOffset val="100"/>
        <c:noMultiLvlLbl val="0"/>
      </c:catAx>
      <c:valAx>
        <c:axId val="41032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60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B4C-72B2-4741-B06C-FA2C5D71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1E9-CB2C-4EDB-B0BC-AA16D32C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EFE-33EA-4360-9A2F-5D5887E1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4BF-B63A-4D0A-89D4-42D81484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4CF-CD59-4DCC-A0EB-CCFB903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258-4396-4C05-A65E-5939F283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689-9EFC-4B3F-960B-3328B8DA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15B-34DD-4A4C-9670-D93AE5D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B2B-B1E9-4D4B-802C-2B159C9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CF5-13B7-41D8-9C5D-8C505334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5B3-40BD-41DF-BACE-E3CF5C7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92A-6EAD-428E-8BBB-A4DCE3CC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28BEF-49D2-4F95-891D-E2CB34859A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