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01075"/>
        <c:axId val="73313626"/>
      </c:barChart>
      <c:catAx>
        <c:axId val="150010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13626"/>
        <c:crosses val="autoZero"/>
        <c:auto val="1"/>
        <c:lblAlgn val="ctr"/>
        <c:lblOffset val="100"/>
        <c:noMultiLvlLbl val="0"/>
      </c:catAx>
      <c:valAx>
        <c:axId val="733136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010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92A5-3BB6-49CE-B580-7EC843AC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F4A-2F30-43B5-AA2B-6F18FFAF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6FEF-9FE9-48A6-8BFB-83633517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CE1B-1A39-4F8A-9E46-F39A6A73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47F-DA45-4A8C-B9B3-6F0DF2C8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A15-D957-4A1F-B5D7-7E19B52B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9201-D81E-4EDD-9E2E-54DF6119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042-06E8-4977-AF81-39528F78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08F-8F27-4077-B111-98BE5EDD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CC4-F1AA-4577-8D89-B41BF8BB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D28-D835-462D-9A73-43EC2DE6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666-1CE8-4527-9442-A72CF7F5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5EE13-EA7E-4F53-821D-6B686550D1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