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08154"/>
        <c:axId val="2066750"/>
      </c:barChart>
      <c:catAx>
        <c:axId val="35708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6750"/>
        <c:crosses val="autoZero"/>
        <c:auto val="1"/>
        <c:lblAlgn val="ctr"/>
        <c:lblOffset val="100"/>
        <c:noMultiLvlLbl val="0"/>
      </c:catAx>
      <c:valAx>
        <c:axId val="2066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08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DAF-9137-456F-9975-6EF8B442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1EE-39E4-4FD3-B438-7336667A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E38-F8A2-4889-AEEF-918AE1E1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868-7389-4BAA-B3D0-BF5241C9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E5-BA63-4B45-8E93-8F41E6C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878-9EC3-48EB-90B6-6E66D7D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6CD-5657-4B64-9657-5B4C68D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926-C017-4874-815E-1AA1C42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204-2DFE-4417-B8DE-DEC401D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627-9D5F-4EF5-9CC4-74C6CE2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690-6C4F-45CA-BB70-9FCE095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5AC-2291-4065-83B4-9B78EAE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DCCAD-414E-42CD-BEA0-F2559328F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