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96379"/>
        <c:axId val="93470903"/>
      </c:barChart>
      <c:catAx>
        <c:axId val="81696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70903"/>
        <c:crosses val="autoZero"/>
        <c:auto val="1"/>
        <c:lblAlgn val="ctr"/>
        <c:lblOffset val="100"/>
        <c:noMultiLvlLbl val="0"/>
      </c:catAx>
      <c:valAx>
        <c:axId val="93470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96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A5A-FF27-474F-A095-2BDFC1F6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162-33FD-4342-924D-69992F59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9D5-96FB-4144-AECA-CB1D85E4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5EA-218D-45B8-93E7-B34E3D1E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00D-A3F7-4EA8-9BDF-17980A10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57C-0399-4828-A183-7344F351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BA9-4A42-45D8-9AB7-C271DEDC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C7F-01F3-4534-AD47-E869E6C6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C55-89BF-40A6-AD14-AD8F0290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F0C-29B9-414B-A3A8-8C05651C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766-534B-4DA4-966F-77151997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EEB-E585-4DA6-9CDC-4988762E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1CF31-E397-4CC7-AB46-4D642F442F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