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21854"/>
        <c:axId val="75781743"/>
      </c:barChart>
      <c:catAx>
        <c:axId val="22921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81743"/>
        <c:crosses val="autoZero"/>
        <c:auto val="1"/>
        <c:lblAlgn val="ctr"/>
        <c:lblOffset val="100"/>
        <c:noMultiLvlLbl val="0"/>
      </c:catAx>
      <c:valAx>
        <c:axId val="75781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21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212-5972-4D17-BF35-21849D44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375-58AC-4948-9127-F8C09108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B8A-0A12-4C7E-B9E3-C54517FD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B75-E120-415A-8D84-A437E2AF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78C-5146-4963-9CB9-BFA2ADC2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23C-3E51-454D-949D-0F1B7F85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4C1-DC9D-4DED-A7F0-E5A0DF0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2F0-E928-4285-9315-357AA793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23B-175A-4352-A862-90D5748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358-EB2E-41E7-B2AE-0D635B1D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974-F8A0-49CE-AE27-58DF731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619-ABEE-4AC4-9375-2F8C996B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FA2C4-80E2-4069-9D3E-CD81580FE7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