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78DF54-D405-4378-ACAF-D3548C4D7C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281ACB-5F7D-468E-AA9F-9EEB2232CD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5418A1-8DBA-4813-B6CC-5F860C3F67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713B9A-BA0F-4EC0-8D94-E9E50716AB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36894E6-9B41-49CF-A83A-66E68EAD6A7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0B7B29-55DB-4882-A4A4-0E07F159F9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283504-FF9C-4D6D-A89B-C918BBD7BC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62C060-1D96-491F-AB74-D18CA5D49C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E18254-3C00-47A5-A98E-15678D86FD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F68384-A5C5-46F4-BE69-DF6CB4CD20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9007C5-BDB8-49E9-8A2B-722A102494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39995E-117C-4F2B-B3E1-BEB982E0EA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0650BF-BF69-4610-9F39-48A37A4659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C3EC03-537D-4CA2-B650-5492BD0229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CCED6F-09FD-48F4-843B-E3D20D0023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389C729-B51D-4839-B9E3-C6C3A09FEC3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F688808-C78A-4275-8DD0-7E197B70275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125020-AF64-4591-ACAA-A99B294AE4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5D4C53-1963-4240-9475-654F6A9314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A8BC36-E285-4DA2-ADD1-5E73DF87F5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2F7EDC-DC4B-45B2-9D13-CE3AA49AD8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A43001-2411-4BD4-8583-15C0F57820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78617D-DA9D-4CCD-824B-9B68DB94E3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42BAC6-6AE5-41F8-AF87-DDA79BC7E6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4E2CD6-EE89-45CD-87F4-75275A14F74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26F97C-A0BF-48BB-9B82-7C8D1749B3D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E30B8E7-BCAF-45E2-9C5C-BC789231468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C2AAC06-0C68-42EC-B540-01BD4986984B}"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079AC2-34C5-4B2B-9AC6-E1353BB703C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A2A681-48CC-4D60-837E-32A686A34E19}"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05847A-6E30-4BFC-85D2-A27EDAA4135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740812-5FD9-4457-9219-9DD8D0B76BCD}"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0DADE8-9717-4198-A1C5-AEDD7769E0F0}"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174246-83C1-4050-BFFF-67D491EF6CC7}"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B6CF41-4C5B-4D80-90B6-C4CF77883227}"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D447D4-8C3E-4F08-8FCA-37EBE12C9D0D}"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1B64CB-38A9-45C7-B1ED-C0F1DD4F93DB}"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969CAE-43AB-4992-B481-879030F946AB}"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F2FB9C-5BEC-44AA-8872-6A2CC2B2E1CD}"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61AAB5-3769-4596-9B9F-5684D86B649B}"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2E2FA1-217C-4070-9248-0A2034DEEDFE}"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1A3195-FE1B-4B32-B71C-308DA059C049}"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6FBB5E-D06A-4320-9AFF-3C189CAF6670}"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530523-7C11-4F10-AB4C-01403C4B54F5}"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500A88-C57B-49BB-B461-60DACAF949C2}"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E538C7-7025-4D9A-9C8F-B3A6C14CC584}"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DED410-BD56-44AF-B511-CE2586E65857}"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E66580-57D2-486A-B4C1-61266E7DFB5F}"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E48E97-432F-4F61-8935-9B02A7920BAE}"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306138-E7E9-4ABB-AC77-236BDE158ACD}"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46D75E-0574-4EF7-BE31-801199C9B5C3}"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52E139-B95D-40D2-B95A-C6F10F8CA5A3}"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C8F348-16C8-4E45-B84C-1BD098955372}"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604D5EF-D44D-431F-B5CC-5AD3C2ECFB8D}"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AA0F58-D6E4-437F-BC81-35DC02C91E2C}"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F26377-D7E0-4CD6-8265-025AB92A9404}"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A536E2-76E4-4918-B8E5-EAB6AC753030}"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C6970F-8ACB-46D9-8376-190765D5A469}"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EB1024-DBB8-4CEB-A3A1-F76D416512F6}"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986F74-9FF0-4B5F-8CDA-2833581D3670}"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BACB9A-D65D-456A-9EEF-1FD61571094F}"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729AB6-268F-4B39-8024-01A35C9B7EE0}"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116666-53E3-404D-BD57-922E40F14DFA}"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62E2A3-920B-4653-AB3E-CDEEC85210B7}"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B9FF88-8CB3-4FDA-A3D6-EA90F394B3E9}"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3D4DB8-8C1E-4D86-B34C-A215CDB5361D}"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9B7BA3-582D-479F-BF7B-87263604D444}"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795FC0-DA1E-4E50-8860-C6E30C1851CF}"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753E31-187D-4B81-8BFA-D6427FD1A67C}"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AB6981-DDAC-4FE4-834A-61E689CC243C}"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FFB00A-BB5A-485A-AE8D-B3B4A6BF0036}"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938194-A6F2-4E70-98E8-A5830DADBF21}"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8D6806-08BA-4468-88E6-3837055859BB}"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E8EEA9-9173-4787-AE86-4A0F1C931DFB}"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292134A-A03E-4FDE-AF68-97D301116A7D}"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F5E451-5596-44DD-98A3-4F6F1D32B60E}"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E52D3F-6A25-44FA-9607-08EBB4A07D08}"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F407211-DD55-4B13-8378-E72DE6F0B00F}"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2ECE07-EEF1-4B3D-A479-7B475AA03392}"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DCE480-1E70-4941-85AB-36ACD3D473FF}"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F0EF35-80D5-4A97-972E-91B54F9793E1}"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581255-18FE-4A36-8DA2-EEE69EE43400}"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3992F6-4F32-42A1-8E91-9E77C84DB10A}"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425FD2-50BF-4D83-9933-72487440B381}"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040408-2984-47CC-9C16-BE4A27990F61}"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35526A2-C102-4180-8779-ADF9C84606C2}"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FA566D-FDB6-431D-B038-0835866D9875}"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587051-21A4-4064-990C-73576768FA5B}"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3B58FB-BE0D-439D-B062-757C76A3A35F}"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205E7F-686E-4120-AE3B-9D1E108AEF40}"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D36324-FB1F-46FD-99C9-C6B25D68B6C3}"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A3BEDF9-1076-4977-88DE-F43F0E1EF987}"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0EC2C7-57A0-4A95-BABF-94222CC35E3A}"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0B5673-667C-47E2-B239-82EEB73691CC}"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93979B-C5C1-4278-B40D-A5CEA9543107}"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C0C7D7-40F0-4967-938E-CA661E86BC98}"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4F1CA45-9999-4E2B-8F33-01F5590458C6}"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A1EB1F-78FB-4A74-8876-FF5500743348}"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1BCC17-2599-4D30-9309-1C24BDCCD4BC}"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42470E-54B7-42DA-838A-B1D8ACEDE750}"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4761B7-53EB-4E5C-90B7-A3E1DB833A5E}"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D43C71-2FAB-4052-8D6F-E7659E35A5FA}"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22DBEA-5E87-4188-91DC-9E3B2503D525}"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EF65148-AD3F-481B-9D77-A64E54E0C53E}"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FA050C-6436-4CC5-A2CE-E63155B1C0EB}"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37F15E-7914-4662-A1BB-2BBD3CC5294C}"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F244FC-B10A-425D-9CC4-F6AC5DDE35ED}"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115E6CF-CEFA-420A-9F55-93AE6CC0CA9A}"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6A776D-49E8-4073-BC38-B96F9058346C}"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1D887AA-12C0-4885-9215-20811A664164}"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CB5C31-A66F-4B6F-B501-3AFA35520241}"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4EAA7F-54F8-495F-A0D7-974AE46A996C}"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C8A4CE-5CAF-42FC-98E0-C783BB33B75F}"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EC944B-8495-4652-859E-1BB1D28D4544}"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750F93-FBFE-4E26-903C-A27E6438DA21}"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12157C-D4D6-4BFD-A9C8-2C3F9F96CC67}"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D966EF-540A-4FC2-8AAD-F22F60B8C844}"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213E97-28E7-4286-AB83-E10AD263B00A}"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7A2F56-77BE-4438-9B21-C20AAD1BB32E}"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DF7F61-9A49-4894-9FA6-BFA42C075EFD}"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2F3F1E-E4FB-4AB1-9B58-DEF6A946134F}"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A6E1D4-2110-40FE-95DC-3CD0940813CD}"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BB62CC-7DD2-4CFF-9D96-4EA0C2965501}"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A948B7-6359-4206-B3B7-592B32C35FA3}"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08802F-4269-46F2-A0EE-DB71C34CEDD3}"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509666E-0FA1-45F7-AB82-54BA752DCC94}"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6EB4D7-798E-46A5-BF26-29A3E27B8BBD}"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715467-E628-41CF-9885-005B25DE4D33}"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8B17A7-8E0B-4590-BAD9-D81EED91806F}"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02401B-E0B2-4C03-A05A-ECFAA408EC87}"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404AA7-A8B4-4F74-AD34-D750EB23C3E0}"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FA1C2C-877E-4D3D-B6BA-F19589558168}"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498684-540D-484B-B2AB-3AAD7977BC9D}"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443873-34C2-42DB-88A6-462F6370D90A}"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85293C-0028-4520-84CD-734F66DAF676}"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C9FC8B-29C8-4A2C-969D-857BA073C8F3}"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B19931-F2C3-441C-815E-86DDB1A43261}"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9DE6F8-9F89-4911-A419-0DCE2E422A0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92FA5F-2077-4733-AEB0-56A6839B9265}"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AB3AC8-8B85-407C-872D-121D32D45114}"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EC3E82-B730-49EA-B71F-D4721784A588}"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2CEEF1-770C-4B32-A466-0FAB268D963D}"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1D7221-30C2-4774-8E7F-DF1622F891DB}"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E07720-98EF-4253-BFF6-CD15E806D584}"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6E60FA-8A10-4968-886C-D5B91983EA34}"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83BE4F-74F4-40B7-B95E-ED90DFC5EDCD}"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15D924-D368-44C9-915B-3B8FF211C630}"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2FFAFE-B72E-4FBF-9C73-A71837430484}"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2F5AB7-3D01-4CFE-B4B9-4BF703C811BA}"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E15939-6672-4263-9FE0-BA75384156F0}"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A3CCF6-73E4-46BE-AA54-317C7A8BAA39}"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4A0F3A-3596-45D2-A4C1-078CA8159AAC}"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C30343-284E-4891-860C-EEF41E7B290E}"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2432CDE-B4BA-425D-9A50-0C44E0E6B398}"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FD0902-0B07-42A8-B5A8-5384FD4AA0D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E9DDCC-8FB9-4FCF-97A3-D7C0948939A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C64D10-7E0C-44F2-BF60-B48FA19FD4C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461560-8A79-4A3C-B8D3-A87F5AF85AD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5A6E4C-D630-4391-AB48-73DC691B394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FA8084-A5CB-4758-A1F5-C1824F486D1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BAB361B-5DBD-49E5-8701-6ADD93CC68F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8DB47E-73A6-4412-92EC-FE823A12356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1DBD81-2501-460A-9E09-8DE2018A3E2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D90FE4-81BF-4DFE-8157-1BFFE73EEBD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F08D53-65FE-48BD-93EE-ED0C2D46254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FC3E05-5F11-49A7-848D-780279EE9DB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3042DA-51EF-4CAB-A7C2-05C94F5AC19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033ABD-8181-4BA9-A884-8D19744917B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14E5F5-D13C-434B-BA1B-489811CE6D4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C27566-C3B1-4DFF-90A0-DA3E3E39D4B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D325F5-8494-4B0D-8B93-252BD9B0427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2724B3-3C17-4EA6-90F9-461C4BCE8CA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E806E9-06A3-41C1-98F2-2062C3D5240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E289A9-5A9A-4509-B1E9-B8D45CAD11C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E85A21-C493-4A2B-97C1-B921C6D8700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51E342-5012-43DC-8218-5586EF7AD8B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38F5AB-9CA3-4C0C-BA7C-8694C484DC7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34EE5C-F657-4C74-B462-F26CBDEB5F6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7FDBD4-371E-4146-8B8C-101159F3612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3BE620-62A7-4468-BB9F-DBB48763541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D3CFC3-3C44-4DB6-B5C7-074A1E35EDE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5423CB-EA19-471A-A560-BD0F95CA1B3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F65638-5DA9-417A-BBCC-C15110C5D66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FB2F5E-AB07-429E-ABAA-B5EDB8AA491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274253-03AE-4AD0-8BD6-B47BBD1DE09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506EC3-92F0-4BC6-9236-4A881B0DAD0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9668D1-1897-4C31-8B5C-B1FB2A6E631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C10DC3-FCDA-4452-9E1C-FEA71FDA7CF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FBBBA7-377D-4EA9-8562-61AA27F6F60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8E5A7A-5AC2-47C6-8F3E-E53D1432B0E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91A84D-7633-475B-9755-AFE6D8E8A8F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59A356-F8CB-4D33-A774-FF9BFC41DE95}"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CF8C79-5BCD-46D4-BE5C-571AE74E412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9194CE-FDF0-453B-BB1D-93C5E175AC6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ECEEAF-96A3-473C-AA20-E7B05BAEB27D}"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C4E985-89A1-4F89-945A-918F4182EB43}"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ADF2C4-67E3-4DD1-906F-20E5E0A7D66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A6D9CF-6BA1-41AB-B017-F859D0E5F6B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D1DF15-2BA8-4BD6-9D8C-94C7205A00E4}"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A1B6C2-C23D-4366-B67E-3C672EB219C0}"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959FFC-EDF0-41A4-9FA0-5148E9C0A43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CB3F6ED-B492-41AC-8F03-2ACFC9B52FE5}"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20D8F2-98EF-4290-9AFF-28CDAA97D4B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46AAFE-A482-4593-B7B4-CA3F4592D53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B5465C-2B7B-4DED-9CEE-4579D70229D4}"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3F1DE3-5983-43B7-88EC-A1617432C5B3}"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C9162C-5353-4AB7-B5E1-4251F7934FB9}"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C39429-593B-43D7-87FD-82E489FAA8C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538269-1E01-4A3D-9599-0C49159077E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2ECEDB-B519-4C06-B678-5374CC57ED7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8D2F1C5-184D-4396-9839-E52B15475BF9}"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C3D0F1-25FF-4284-8ADB-8D13CE07F6F6}"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4A2532-301A-4438-9B7F-EFACB91C398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C31487-5CED-49A3-A479-223702D5E338}"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67EF10-8101-4E6B-990F-5A6C7D4836C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600D13-EBD1-4D0B-91D4-7FD932C6633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48660B-94E7-4577-A06B-CE07BE899FC2}"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D060AD-6521-44B5-9928-98A35B8D55F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B8C0A8-23A6-4D8E-AFB6-9A93F30B4798}"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2EE2E1-AAAD-4126-B24B-11BA181D5CE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B5CFE2-06A0-4D52-9D8B-8254B735AC2C}"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1826A3-2485-4647-B635-4DC3F90A2005}"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D015C8-BC64-45AB-BA8E-5D2A06651237}"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36FAFC-A674-4DBF-AD91-5657F768E15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247083-F80A-44DC-98F1-6AE2DD5499E0}"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86C300D-61F3-4B8F-AC41-545089B6A0E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BD76AB-5FE2-4BD1-9D90-76185731DA2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37BF45-0141-4BEE-913A-DC7B8BDDB07F}"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71FE26-58BC-4D10-98AE-478B1EBE1CB2}"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C265BE-9BE8-4F43-9404-F5D57D80D86C}"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B378E6-BFB3-43CF-85EA-5F7418E39E56}"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B9D477-D2FA-458F-9537-67A20C10E287}"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F42AB2-8F28-43D7-BFAF-8E1C0AE01FBD}"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30F765-5F90-407C-88CD-B0511D66C4D2}"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F82FC1-DF13-4D62-BFC8-61F7AA5B5183}"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D25316-0C1C-49C9-B239-9B6E05773BCA}"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2058BA-E445-4ABE-9E5C-83264139BA25}"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07683F-6A97-48B6-BF8F-DE73196FB080}"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3496BC-C115-4F88-B634-34DF17FF10C3}"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