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9761"/>
        <c:axId val="53483263"/>
      </c:barChart>
      <c:catAx>
        <c:axId val="9439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3263"/>
        <c:crosses val="autoZero"/>
        <c:auto val="1"/>
        <c:lblAlgn val="ctr"/>
        <c:lblOffset val="100"/>
        <c:noMultiLvlLbl val="0"/>
      </c:catAx>
      <c:valAx>
        <c:axId val="53483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877-B002-42EE-A2B8-CE76D20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CA3-4202-4426-8A57-87C36D5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464-13D6-4076-A406-1D8AE715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DEF-CD43-4341-BFB2-BA15A17E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C0F-4126-4D76-A999-3955EE49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7E2-032C-4C37-AF86-C9B6316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B18-C37A-4C00-AF51-CE936764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A94-E52C-45F1-9C9B-39744E2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8A8-B44D-44E7-8EC6-3F6C380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F99-DB0B-4061-92FF-D2B8C85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264-10C9-449A-9AAF-6C59E11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F72-B46C-4EFA-BD5A-8C2400B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6BD88-E204-4938-AC09-EAFC8C279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