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2087"/>
        <c:axId val="53916563"/>
      </c:barChart>
      <c:catAx>
        <c:axId val="47792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6563"/>
        <c:crosses val="autoZero"/>
        <c:auto val="1"/>
        <c:lblAlgn val="ctr"/>
        <c:lblOffset val="100"/>
        <c:noMultiLvlLbl val="0"/>
      </c:catAx>
      <c:valAx>
        <c:axId val="53916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2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0E3-1FF9-4DB2-8244-13D124AF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262-FCFE-4753-A612-D200BBB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D1B-B982-4EE2-AD79-E580899CA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1700-A824-46FE-B42A-A20B63D3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90F-F375-474E-9C0B-B295ACF1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23E-273B-472E-B4D2-B653DD4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F3E-E54A-45E2-ABAA-8F57273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EEF-C5FF-4A0D-A7F5-39260FB7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4F7-D1AF-44D9-B58E-94C8C91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060-2057-4B5E-82A8-0635F6CA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9E8-7E01-48C4-AF5B-CECFA77C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D71-95BB-4B94-80B7-0FAD8E7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FDC4-BAD3-44B7-A624-1731ED9CDB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