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556500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5564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556400" cy="10691640"/>
          </a:xfrm>
          <a:custGeom>
            <a:avLst/>
            <a:gdLst>
              <a:gd name="textAreaLeft" fmla="*/ 360 w 7556400"/>
              <a:gd name="textAreaRight" fmla="*/ 7556040 w 755640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62">
                <a:moveTo>
                  <a:pt x="4" y="0"/>
                </a:moveTo>
                <a:arcTo wR="4" hR="4" stAng="16200000" swAng="-5400000"/>
                <a:lnTo>
                  <a:pt x="0" y="30558"/>
                </a:lnTo>
                <a:arcTo wR="4" hR="4" stAng="10800000" swAng="-5400000"/>
                <a:lnTo>
                  <a:pt x="21596" y="30562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104480" y="812880"/>
            <a:ext cx="534204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188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672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276440" y="0"/>
            <a:ext cx="32763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10158120"/>
            <a:ext cx="327672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276440" y="10158120"/>
            <a:ext cx="32763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2DE1EDA-02DC-4FCF-BE54-45B664B0239C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"/>
          <p:cNvSpPr/>
          <p:nvPr/>
        </p:nvSpPr>
        <p:spPr>
          <a:xfrm>
            <a:off x="1104840" y="812880"/>
            <a:ext cx="5345280" cy="400824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1"/>
          <p:cNvSpPr>
            <a:spLocks noGrp="1"/>
          </p:cNvSpPr>
          <p:nvPr>
            <p:ph type="body"/>
          </p:nvPr>
        </p:nvSpPr>
        <p:spPr>
          <a:xfrm>
            <a:off x="755640" y="5078520"/>
            <a:ext cx="604368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3556E-0208-4BD8-8F16-2F9B355F937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3CE03-FF04-4278-9DA7-1E730D782E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B46D4-5309-49F9-9BE8-AC7952235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65C2DE-B294-4C86-A94C-9080FC2A410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71784-9D12-40CD-B9F4-52B2BFFA5C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ADE0A3-048B-4405-A690-BC2F82C500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E9327-2108-4192-A381-9E56B268AA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24DC12-A942-4415-AB85-856E16F44B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87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041E99-46F9-4054-9768-4DD1E418CD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8CD530-303F-426D-8F7F-7B7539BAB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D34381-96E9-4BFF-BB06-6A20D9FCA0C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87000"/>
              </a:lnSpc>
              <a:spcAft>
                <a:spcPts val="1426"/>
              </a:spcAft>
              <a:buNone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110229-EA6B-4B33-9B7F-3B386B4C01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87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0200" indent="-324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861840" indent="-28548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29384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725480" indent="-2142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75000"/>
              <a:buFont typeface="Symbol" charset="2"/>
              <a:buChar char="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157480" indent="-216000">
              <a:lnSpc>
                <a:spcPct val="87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080"/>
            <a:ext cx="31924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080"/>
            <a:ext cx="2344680" cy="520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818638B-12F4-4191-ABEC-FFE7C4FCA454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/>
          <p:nvPr/>
        </p:nvSpPr>
        <p:spPr>
          <a:xfrm>
            <a:off x="188640" y="360360"/>
            <a:ext cx="5039280" cy="34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1800" spc="-1" strike="noStrike">
                <a:solidFill>
                  <a:srgbClr val="000000"/>
                </a:solidFill>
                <a:latin typeface="Arial"/>
              </a:rPr>
              <a:t>Hello from a Microsoft PowerPoint Presentation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Mirko Nasato</dc:creator>
  <dc:description/>
  <dc:language>en-US</dc:language>
  <cp:lastModifiedBy>Mirko Nasato</cp:lastModifiedBy>
  <cp:revision>0</cp:revision>
  <dc:subject/>
  <dc:title/>
</cp:coreProperties>
</file>