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30402"/>
        <c:axId val="11623719"/>
      </c:barChart>
      <c:catAx>
        <c:axId val="90030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23719"/>
        <c:crosses val="autoZero"/>
        <c:auto val="1"/>
        <c:lblAlgn val="ctr"/>
        <c:lblOffset val="100"/>
        <c:noMultiLvlLbl val="0"/>
      </c:catAx>
      <c:valAx>
        <c:axId val="11623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30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229-1BD9-41B5-88DA-49259240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70F-7FE3-41F9-95E0-267D01A0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CC3-EE72-4013-B3C5-3A8957E9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7DF-E973-48B2-8EFC-3471E2D3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5C6-4B9A-480B-BD80-83039448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855-F1AB-4028-974E-7FDFBF3E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255-4677-4749-A68F-35075735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F47-3B6F-4649-9B24-6CE5AEC2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A56-C0EA-4797-A270-B44001FC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EE6-7F7A-413E-9BAC-AEFED6A0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A22-A740-4974-B7F7-A88D2F55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B82-8D51-48C6-AE7D-CB9FDD0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B8CDC-A8FD-4712-BBF4-CA7591EE8C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