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59466"/>
        <c:axId val="45465975"/>
      </c:barChart>
      <c:catAx>
        <c:axId val="78259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65975"/>
        <c:crosses val="autoZero"/>
        <c:auto val="1"/>
        <c:lblAlgn val="ctr"/>
        <c:lblOffset val="100"/>
        <c:noMultiLvlLbl val="0"/>
      </c:catAx>
      <c:valAx>
        <c:axId val="45465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9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44A-3977-4FC3-A971-3EC48FFF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A8E-F92B-48A1-B1BA-161C019E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FD7-037A-4C2E-8A56-708850AC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753-0CE6-4C0C-A78A-4233BDF4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FBD-4CA1-412F-AA74-8AE11B1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4D7-B23E-49FF-987C-E5566897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641-4529-40D3-B275-D06C9A80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8FC-2C3F-4D77-848A-898D6376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F55-0DE6-4C54-A1BB-2B6EBB9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F88-C7A5-4061-B5A9-BDD166C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7C4-8045-4B72-947A-B8E59E9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C98-5EB3-4A2D-AC7D-20F03EA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19C05-CE2F-4553-8404-CFE813BD25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