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34649"/>
        <c:axId val="11636339"/>
      </c:barChart>
      <c:catAx>
        <c:axId val="29134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36339"/>
        <c:crosses val="autoZero"/>
        <c:auto val="1"/>
        <c:lblAlgn val="ctr"/>
        <c:lblOffset val="100"/>
        <c:noMultiLvlLbl val="0"/>
      </c:catAx>
      <c:valAx>
        <c:axId val="11636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34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DDE2-9D40-4D35-8400-0FDA7A07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CE0-EDDF-4F29-8180-C3105DA9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1CF-78B3-4B19-ACD3-22A55C3D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7FE-517A-4C2B-9249-47EC505F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5E7-6881-48A1-A245-55A06AE6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985-7BCE-4F53-952B-C84B338A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7C7-E992-44AE-A27D-BAC33275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D45-7CC8-4A83-AD80-DCB4A825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26E-84FA-49F8-AA64-3F02AE3C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546-2669-4D0F-B112-0B52B81D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E38-8E03-474F-9D54-8021C109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B08-7874-45B7-8B23-9A91E3DC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9F7FF-6D21-492A-AB42-2743EDA0E8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