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1947D6-7D6C-4EBE-B1DC-C1D1BA8515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6395EA-5318-4EB1-92B3-2B95C689B8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A3018F-00D5-4CE9-BF3D-135EEF939F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0EA756-EF8D-4FB6-8E4F-1CCD407C3F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D5D58D-F354-4DEF-8671-96E71E1C15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35DE68-2805-463A-9C58-7935E01971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56E19B-8FBA-4C68-9C1F-A4511F29F9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642A63-EC8D-4C28-8E1F-6A63E98A73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ECC107-FD8F-488B-8AF0-C1775D9435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F740F6-9868-4902-8B63-646B08F282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49CDA2-7AF6-4B79-BBF9-D63C528AA2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2D833A-258F-4CC9-9294-84367E4AF7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6521C9-F4F3-474B-9CE6-CD1D04159A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C009B2-59B8-4180-8EF6-6BB7659D8E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BDF948-EB5C-4492-8615-35AC2A2B8D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864657-C022-438E-AA17-60B7D8B35B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608E665-5516-478D-BBA0-B7D4AAEEC8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C857BA-AA48-46FD-8F04-53D47BEF85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65538E-8F8B-4751-B743-A63A1BDEDC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14AC7D-1A2B-4301-BF12-E9365BD14F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66B31E-95E3-40D9-BBE6-2C61258486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EAF118-1778-4A1C-98B9-A68C3DCAC9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792E7C-8F72-48DC-918C-99E0075466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584D5D-3EB5-44EB-B6CE-A14619BCCC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539E2-C34E-489D-9E09-4F499BCE4F5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98727-BC48-4619-AF64-4B016F94859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E1446D8-F553-49A5-B9CE-4EF228F3FB1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4034F0E-1919-4C73-90B5-E7474820670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4B7C2D-BA15-4749-8797-90E3ACAC1F2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068F2D-CE9F-4A74-9BA0-BD39C74DEB4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663B02-25BC-4A3D-9509-AF03F9B9F2C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5AE944-0A73-45A7-A215-0D396E95A98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0AD99C-2EB1-4D05-8417-A22D2BF36F4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E94638-CEF8-40C5-B137-49A9D1F3636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482BA1-2414-4499-9DD4-808AC8C77BF5}"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23353E-5072-4276-A127-25956CE16086}"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34FD4F-3DB8-43F2-B3DC-91A1352099DC}"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D340ED-6033-4222-9FD8-55AA583218A3}"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A70057-2E21-4A5B-A9E0-70FDEFD0683A}"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6CB200-0C46-47C6-8970-3B0F8BB6CE33}"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69A5FD-74D4-44E8-95A9-7EDA531596C1}"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BCC7AF-9E1E-43B1-898B-36B08FB7E71D}"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9960B3-BE38-435B-9524-6FF646EB39F8}"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8B499B-CE67-456B-8B0C-F3F0E21C7F05}"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C4E4DF-780B-40F6-87E9-1D65A3BCC80B}"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8A4DE9-3EBB-4445-8711-ACF0F8D16630}"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10FD1F-5F8A-4D51-8CB0-77D94C0F5CB6}"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F5D9F9-D9C2-44CB-A4A0-C884139487A8}"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C2C1EB-50CB-4A21-B98B-A4C305A8CE93}"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624530-F467-4D4D-881F-AFFB3C88C2F7}"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50C5E3-2D5C-4169-AC0F-73E1A6966785}"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F529F7-A238-48D8-A88D-9FFCA51139B3}"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6C3328-21A4-47DD-A32B-4F6B75D1E5F3}"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9340E01-4523-4A2B-8D0B-E2356120EBBD}"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B224ED-EA03-4371-BEF3-69A45BE58F58}"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000842-C508-4B69-93A4-E591C9EF45BD}"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44EDC6-48BC-4A48-99F5-41D02E514FCB}"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7C226C-A739-4C68-8DF9-267AE1EDFF4C}"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E19FE3-8961-4147-ACC2-14899223A4BB}"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ACF5EC-0C8A-44FD-9154-01E32EFC902B}"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775249-73DF-42B9-9277-37DB7C206DC2}"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B59770-5F79-4787-B70A-F653E2B273D8}"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B3CB4B-B575-4510-A296-647C355584E6}"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86F79F-D961-4BCC-A277-9DA122A86E9B}"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6E1CDF-C824-4626-B3F9-D37E2CD9D5D4}"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229CFF-63EA-4738-8622-4EB8FE232B41}"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D861A4-5E1B-4568-8F0C-FACE5388E555}"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C5D74B-C8A7-421A-884D-BE6F9D58EE54}"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018F18-4856-40F0-AD69-C423D72C03BE}"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56234F-97E8-4432-9782-D92C55AC4641}"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EAB491-EAEF-41E9-B5C8-CC2A6C69EAAC}"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0864B6-E4D6-4E47-A64A-353BF91EFA7C}"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3DD5F5-47E4-41FA-A0B6-4E1E752A53F8}"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26723F-038E-40FF-9BB9-D22123455D58}"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CACBD15-990E-4F7B-AB12-6429ABBADC9B}"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3D6D62-A08F-4E27-9BF5-518BE1E9C1F4}"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4A62CF-9B7A-425F-BF56-245C5159A744}"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C6C3F0D-6BE3-44B4-ADA2-F7A8C82CBB16}"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A3D6E5-99A2-44CD-8150-57EBCF3B4B65}"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AAD278-25C3-4CFE-9FC2-857D792C2908}"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023FE3-A2D8-42E8-9EF8-79B7569A9B2D}"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332188-F65C-4C98-BF90-BFFC8FC40C6D}"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C10D90-73B4-4E59-BCC7-5283682C7ABC}"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4F14C5-8995-4955-85D4-7D7B5E7BA9EB}"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D125CC-A8A8-41EE-A53D-D30526B6509C}"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DBB390B-EFB8-4A5C-9686-450BB8934353}"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44CB5F-5A48-4043-89F7-D822CF2E5189}"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8A9F51-2D5E-4652-8C45-1473BAEBD423}"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02364B-989F-48A2-8D29-18FC208B60B0}"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5E93B8-D590-4299-BA4F-A723943F9599}"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42FB6C-C31E-49A7-A7BB-352207FEAFBF}"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67B8335-D7AD-4CAD-A573-426C9AAD6001}"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52294A-28EB-4C35-913F-230B0B9452B2}"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35453F-871B-4172-BE48-BEE0E280FE0A}"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676F3C-C57C-4AF9-BC2D-8302F7936DEE}"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8410C5-4ED4-4347-B879-7252CF811C64}"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42F694B-DF95-4CC8-9B6F-E69769935FF9}"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E1FC3F-426D-490F-9FB7-9A8B0175FAA7}"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38E1B3-A0EC-4AE9-A509-36BE91EDD0F6}"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58CE0D-2BC7-47FE-9036-0CE189CEEBAF}"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BFA285-EE16-455E-BDDF-F2A08C2C4266}"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94D15F-3A36-45D4-B5E4-334E2C9E4213}"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5AC4CC-386C-4512-8FFC-67E5D5F05A14}"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98378FA-2AB5-42EB-B05C-918039C6BE66}"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1F978E-36C2-4979-9333-9F7C93C616EB}"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DAC279-A5C3-429A-8C9F-74D46D0CEBFB}"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9EE55C-EF49-48F4-920D-D6E5D586CEF5}"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9A0B384-8434-4559-9F3D-FD6182CFA862}"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BB6202-63D8-4CC7-9CB2-FB58E4022518}"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DC3CF5D-7D13-46AE-8069-4AADECE72C79}"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B5B454-BD19-4C77-9123-F61BBB867662}"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3FD1B3-36BC-46B7-A2D9-830FA5660ABB}"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A71BA8-23D1-4165-90DD-D408BF725C6E}"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8DB4AE-0902-4DE3-8928-1AB739D5F275}"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60A605-5541-46ED-9FFF-F9454C933B93}"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213BFB-6EC3-4CB5-8026-FB6218FF4D45}"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332438-91FD-4389-A72F-4A97E02AA3F1}"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F07B78-5A55-4909-94C6-19255DED37BA}"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01921C-344C-43D2-8537-CD4222591B61}"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73E589-E4A8-45B5-B397-8A322EB26872}"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7E97A6-CA1D-46EE-A0EC-42F5A6453B9A}"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A0EDF5-0D8A-406E-B7C2-918C29A2EF68}"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B567B4-8C8D-46CC-8E89-EC513AB5F3BB}"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2085DB-111D-4BEF-B89D-CBC46734284F}"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287521-1365-4458-AF28-0A827A88E814}"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258BC20-9322-4179-9116-F30B39DD95DE}"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9C3424-3F76-4F74-98DC-202955D5BF53}"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2F18DE-55BE-4C89-AAFD-6686718B7670}"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EF1F7E-4389-4EE9-ADFA-ACB30E02295C}"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D30A08-D1B2-4B4E-A069-F20A98B999BC}"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4EEBDE-84E2-4932-8ABE-C17EF0870CC0}"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9EA37F-645C-4C55-AE59-EB80F0574A46}"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C50F38-DDC3-4EB7-98EC-C4C655359BA5}"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A0B27C-8403-4363-A226-AAD66B245112}"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97A840-D97D-4D2F-8855-FDBEAFB3EF66}"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D0BF4D-42F1-43C3-B1FF-B6129E30EFEA}"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221B7E-C64E-432E-82FA-DB64574CF0EE}"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FCBA7F-CB1A-4DCE-B257-25BCE9BD7C2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4F78C8-4DCB-48FE-8365-D24A2CD55D7D}"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2AC37A-40C0-45E6-9A7F-3825D80CE091}"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60432A-F202-4812-B337-D82D0DDE8248}"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B7722B-5431-48E2-B841-FA71B213353A}"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68E8DC-4D7A-4DB2-9303-2E87F7853314}"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BDB68F-83B7-4ABB-AE91-2757812CBECD}"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F71743-F4E6-49E1-A699-B98DA49FED9C}"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2133EA-D237-4644-8297-F10F79C7193C}"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794DBC-61EA-462C-A3C8-A704BC896322}"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B742EE-45D5-46B0-A2CC-20CF72816180}"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A6BFC4-0CA0-4515-81F4-99E43C7AAFE1}"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341CE8-8CB1-43B3-8B7E-F18729B887E2}"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2161C4-4368-4E48-8FC6-45EC2A656941}"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99C26D-CD25-43EF-B47A-99F65D99DBCD}"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4DFF6F-710B-4F2B-BAAD-3159900B6829}"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64525AC-0C55-4E87-9A45-3AC313DC3051}"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562F55-8F67-4737-82E5-D698803112C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3A25F8-65F2-468C-97EE-C0CBA2BCA81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C00F5D-194D-438C-A36D-41240401196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443BAA-19F1-48EF-8570-5F987202294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5BD7E0-F03D-4B07-B2D3-97C9F063C04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EFAA66-6675-4FA2-A969-C9C553E5F9C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A60443E-97E5-48EE-9920-49D252E149A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E51A62-01CA-4E70-8E1C-583C0897696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C7BFA0-9D52-47BB-9500-86EA9FE71C8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DBA420-DB2D-43AF-BFCF-51C586C2EF6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67645A-5044-4DB7-B178-CAC09F37013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3F1D1E-9D01-458A-9A0C-EDC32E0F505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77D28F-27E7-4D63-8D90-03676CD2BB3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A15B04-FE7F-45FA-BB4B-C4B7005499C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022E22-1F3F-45D8-8E15-85834512A0B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C65A1D-E70E-45E1-B941-C335C4A7C5C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277A2F-CD41-4D1C-88B0-37DF055B706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4EAA4B-1FFD-46F7-ABA8-B8B0469241E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429B6F-F4AE-4223-BC13-C2769A66962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EF2C65-B510-4D7D-B1D8-266BDDAEC34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435981-0F3C-4535-969A-1329E8DFA46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821366-7127-43F5-9914-891EEFAE572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FFB89E-DD5C-4DF3-80D8-968F24D9466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889F20-0EA7-49C9-91E9-23280F3CB2C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EB951C-1213-4C4D-95BC-B804EC6F47A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D46CE6-B011-4433-987A-5008D05B494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F096FF-888A-4FB8-A911-75D93A56228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A58B04-732F-4838-A8EF-BA983777522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BC83B7-FA1F-4B72-9211-14E99701F7A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E3B04A-F0FE-47CD-8EDD-1CD198AFDB9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1CD421-DA39-4E9C-AAFA-5D534F39A1F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7C4EB4-B5E1-4BD9-A7B5-952FA3F6AE7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C3F437-4CD2-481C-A837-BC2C535DC29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B2FACF-69AD-4786-9804-B08C3E3BC82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9939B5-BF2A-48A1-B4DF-C897975EF4C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5904B6-5C8F-45F1-86CD-31922D52132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9F2AA1-4671-4FEE-8083-E660A81C820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9ED99D-631A-46E4-8757-FFBC201BA88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BBF7B2-6259-4FA1-A3E4-376BC150650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213B7D-EA4C-4A70-850F-4D73A70CF92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75B16A-6EBD-4B82-871F-B2F482B2D21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2BFE65-0A62-4F7C-B196-3F3F1D26647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C26761-7ABC-4955-B957-58345B9C87C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5860F2-6059-4399-BF51-06DD7C5EF2F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CB5BFC-3B19-421C-B9EC-A700CA68205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A93016-D299-43D9-98C9-D471E6CEF5B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AE82BC-570A-4B26-B306-551D8773220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995E05C-2D4F-49C1-BE5C-8E2B1C3C5D3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B5D66F-F440-46E1-A104-DA1EB492EF8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3FB92B-0F3D-4FD9-9F00-02D5C1BB609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997B60-0507-45A9-BDB9-BD7EDF55D3A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5B43A0-579D-4D1A-AC10-AD34208D611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8D417F-AFE7-4160-8DCB-6CA73A8A072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234E45-0614-43B7-A47D-61EE04F2647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BCB183-6C1A-4CDE-A9E5-3A0D2730467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D76DE8-B23F-4155-9F7F-76D3A7FE65F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D3C9C6C-3D1A-46C7-874B-31526961E3A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1B14EA-CCDB-4DE9-9B84-BFE6E2D3D28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ACC125-5CDD-4A3C-B68E-B1B50327A0A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C9B94E-7503-4CBE-9116-9FA8B278AA9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23BF0B-EAE0-40BB-B0AC-3EF9415CDE8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B2D819-C5A0-4410-BB66-B883A081254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BD2C59-2EB7-4DC4-B489-9B1F466FCDA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858698-0D91-4372-8F6E-7B8113D7A1C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23F243-B1D0-4DE5-8C75-FB67B7F7FD4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D59BF7-AA0C-4033-A3ED-6F5644A3C32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080688-3F4C-48B6-B50A-6B72AF56D83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D0D49F-555A-4540-823F-2BB1903B00C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966ADE-CBCB-4E73-89E3-10A55A534AD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87798F-12E4-49C6-9EC8-40DA74B8778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F9FF55-AC16-4BAA-8FC9-09A79F97BFA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9827638-BB46-4AC3-8643-49A7FCE4A29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D308CC-0ECF-40B4-AE05-212CE38E5C1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5B04B5-0AE4-4314-9C6F-20A12CE2F6B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DDD87D-E60A-4A5E-9FE2-D1A57F0D861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38CB39-C826-4614-BA80-416C31D2184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C94AC6-9491-43C6-854B-BFB401E999E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E0344C-B48F-440E-A65B-11E9E653383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4547BC-FDAE-45C6-8CD8-10B09B8609A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C21545-4B42-442F-89BD-2ED8FBD2D64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C8217B-28C3-4C45-AAF6-DFF54C5761F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A15027-014A-4011-99B0-63F4F5A269E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405B5F-4C04-4C10-8377-BD817C8610C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7D6553-7E79-4D62-8DCE-28348C96CFE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0E1919-660F-4A04-A260-A992A0F2084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