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A7281-437C-4140-A879-26DAACB4E17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0DC1-27AB-4B62-B2B3-6B6ED138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647B-3C65-4BB8-B240-C4C7E771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2484-8352-4900-8BEB-1BE0AC51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4C5B-655B-4661-A236-94FA9106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5FC0-5023-480F-91A2-CD79D38B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2900-343C-4AB9-A533-ED94DFB8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4712-9EE7-4751-B075-1DC81012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11F0-A1CC-4A33-906F-480E8F7B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DE83-604F-46F1-899B-D11AEB18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F031-46D4-4B8D-B704-18C83884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712D-C0CD-4151-8299-B8F21FAB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CF10-B288-4F90-880C-13B25CC8E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2AF8-450F-458F-BD86-7107F9606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77720" y="571680"/>
          <a:ext cx="8190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571680"/>
                    <a:ext cx="8190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68360" y="576360"/>
          <a:ext cx="8209080" cy="57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6360"/>
                    <a:ext cx="820908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4:58:50Z</dcterms:created>
  <dc:creator>Ing. Industrial</dc:creator>
  <dc:description/>
  <dc:language>en-US</dc:language>
  <cp:lastModifiedBy>Ing. Industrial</cp:lastModifiedBy>
  <dcterms:modified xsi:type="dcterms:W3CDTF">2003-12-01T15:37:20Z</dcterms:modified>
  <cp:revision>2</cp:revision>
  <dc:subject/>
  <dc:title>Presentación de PowerPoint</dc:title>
</cp:coreProperties>
</file>