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7/16/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se performance degrading o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/etc/passwd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magic script usage; explain strict locking, reference items such as MS Access file locking and similar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al notes on the abundance of user/developer feedback, describe personal experiences on questions and answer sessions, direct developer su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94CE-CE27-4438-8E55-6B253276A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6F96-EF00-4FA8-9372-DCD9B1FFE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FAE1-DF1B-4DA6-BD90-2306BF7A4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0BA6-57DD-4395-B230-8CF53A71A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C2B01-4185-4EB6-93C7-EE20D89AF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C7EF7-6011-4842-92F8-FEDAF0106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7B65C-DFE9-457C-BE1D-4D5806D1C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B6C5A-B9AC-4951-8B11-4046C4F6C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CC517-9DDF-407E-914C-02D65D134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26F2B-71B5-447D-B435-0BF58A046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F4CBD-FB28-45A3-AC71-6574DBC91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36D5-41D7-41E8-94EA-FB2B5559F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CF67B-BF7B-4BB1-8BDA-A9CA6BC54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B0049-BBC5-421A-8650-4D8EFA66C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B3247-94C5-4724-B84A-D10652E18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9A453-3CB0-4056-9B2B-579AB0451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4CD64-E9DA-43FF-BEF3-719F74941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A6C3-139B-4513-8495-2BCA89C95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1330-98E1-4680-A906-0F4615241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94F6-3EF2-4742-9F65-7E524407B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A169-183E-44E9-88E6-99C908139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0AAF-27A2-4CBD-A581-5538B75D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2C2B-0A31-48F3-9CF1-AB06749C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C318-2627-4006-91ED-039B8949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14AF5-2819-46D7-BABF-2D493D5E46A0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19230-A6B4-4FEB-8178-7332204177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DE319-24D4-4234-AC2C-59173741CA10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92018-7486-4C62-8539-F4B45D5427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amba Integr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rian Robers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LUG meeting, April 1999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ECF3D55E-D9E8-4141-83EE-B332EA027E22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F48C89-32D3-49AC-9230-EC3241E8DF5E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erv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another SMB server for authentic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query fails, reverts to security = 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encrypted passwords were negotiated, will not revert to use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8A8F9A-7070-460A-BFDC-5A782D80CA14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A00747-02F1-4429-968C-B498AD18CAF9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domai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ill only work if `smbpasswd` was used to add machine to a 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nly accepts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alidates users exactly the same as NT does, against a PDC or BDC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urrent problem with multi-byte character set usernam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42D8F1-27E7-4475-8BB1-71D52DD54AE0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nfiguration File Layou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pecial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ice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A76A2D-7B80-4C84-BC9B-BDEC7CCC8B81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pecial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global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home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printer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C5B62F-41CA-4B86-AFE8-F37FE26C7B89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global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ptions apply to server as a who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ny service parameter can be specified in the global section, they will serve as the ‘default’ for all servic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ad time &amp; keep alive, widelinks &amp; getwd cache, socket options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7F16D5-223E-4CC9-9CF7-3F6C93F65DFC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home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hen connection request is made, If no match is found, its treated as a username and looked up in the local /etc/password file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guest access is specified, all home directories are visi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3984D3-CC20-4349-BBDA-BC0B48E39900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printer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nection sequence; scan existing sections, if [homes] section exists, used as previously described, request then treated as printer name and appropriate printcap file is scanned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e to use `lpstat` in place of /etc/printcap ( SYSV / LPRng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E22094-C8C2-4CBC-A2E8-40E829E403ED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Ordinary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10513F-CC5A-488B-BA16-7CFE9DA66D84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tegration Of Samb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uthentication schem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figuration File Layou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s ( Services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128041-E8BF-4070-A81D-338FAFA9D3A9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whatever you want to show up as a comment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synonym for “guest ok” ( allow this share to be readable by other than valid users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ublic = no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se people are allowed to read (open)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name1, name 2, @group2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these people are in @group2 but we don’t want to give them acces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nvalid users = name3, name5, @group1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llow this service to be written to, by valid 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is is not a printable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who is allowed to write to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e list = name1, @group2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 next two options are to change the Unix modes when files/directories are made.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file creation ( we want the group to be able to edit it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create mode = 0660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directory made in this share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( we want the group to be able to get it/change it, and world `cd`abl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directory mode = 077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5BBE8D-C027-49F2-83CA-10A44D2ED4F4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2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servicename2, put you want he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uest ok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@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fter mapping from DOS modes to UNIX permissions, bit-wise `AND`ed  the permissions with these valu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default create mask is: 0744 , default directory create mask is: 075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 e.g. we want these to be read/written/viewed by user only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irectory 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B7ECA3-0187-42CA-9FF5-800EF3E9DD0C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lete readonl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eto fil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styp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magic scrip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trict lockin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C85535-C619-4762-A986-7667C43C46D9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QUESTIONS &amp; ANSW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 are your frien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enty of online document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y the best user/developer suppor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736FD7-661C-470C-8405-2850E2660634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ttp://www.samba.or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cumentation in the source cod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4D5AAF-0D50-48DF-BA88-8F5230F32876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E05729-2161-4C1A-8163-C4C1A1B80ADB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4227DE-CDF1-41D1-B796-F24713BB6DB3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har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revious versions, this was defaul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amba always uses a valid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ral techniques to determine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user cant be determined, the “guest” account if supplied gets use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57A530-2FC9-4249-91BA-C121A42857F1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BD6D97-9531-463A-A04D-D8C797C53F66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us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fault selection in 2.0.x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 must “logon” to gain access to a 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ncrypted passwords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ee next two slid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96F4A6-25D2-4386-BC3F-204DF2B4D4EB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eparate password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assword storage is not one way crypt like standard UNIX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95 OSR2, NT4sp3 &amp; up, default’s to only send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ain text passwords are never sent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CDB5BE-417C-40E4-9BBC-CAD8181F4DDB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pecial registry entry on client (win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/etc/passwd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nds plain text passwords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sure if future win-X will support this fea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4B49A0-F771-4D94-AD31-EC6DAA057B62}" type="datetime1">
              <a:rPr lang="en-US"/>
              <a:t>07/30/26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7T08:14:35Z</dcterms:created>
  <dc:creator>Brian Roberson</dc:creator>
  <dc:description/>
  <cp:keywords>Brief Samba Presentation</cp:keywords>
  <dc:language>en-US</dc:language>
  <cp:lastModifiedBy>Brian Roberson</cp:lastModifiedBy>
  <dcterms:modified xsi:type="dcterms:W3CDTF">1999-04-19T01:16:12Z</dcterms:modified>
  <cp:revision>13</cp:revision>
  <dc:subject>Overview of Options</dc:subject>
  <dc:title>Samba Integ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bstc.net/~brian</vt:lpwstr>
  </property>
  <property fmtid="{D5CDD505-2E9C-101B-9397-08002B2CF9AE}" pid="9" name="LinkColor">
    <vt:r8>16711782</vt:r8>
  </property>
  <property fmtid="{D5CDD505-2E9C-101B-9397-08002B2CF9AE}" pid="10" name="MailAddress">
    <vt:lpwstr>brian@bstc.net</vt:lpwstr>
  </property>
  <property fmtid="{D5CDD505-2E9C-101B-9397-08002B2CF9AE}" pid="11" name="NavBtnPos">
    <vt:r8>3</vt:r8>
  </property>
  <property fmtid="{D5CDD505-2E9C-101B-9397-08002B2CF9AE}" pid="12" name="Other">
    <vt:lpwstr>OLUG presentation</vt:lpwstr>
  </property>
  <property fmtid="{D5CDD505-2E9C-101B-9397-08002B2CF9AE}" pid="13" name="OutputDir">
    <vt:lpwstr>\\Beast\html\slides</vt:lpwstr>
  </property>
  <property fmtid="{D5CDD505-2E9C-101B-9397-08002B2CF9AE}" pid="14" name="Owner">
    <vt:lpwstr>PUBLIC-GNU-GPL</vt:lpwstr>
  </property>
  <property fmtid="{D5CDD505-2E9C-101B-9397-08002B2CF9AE}" pid="15" name="Purpose">
    <vt:lpwstr>OLUG Meeting, April 1999</vt:lpwstr>
  </property>
  <property fmtid="{D5CDD505-2E9C-101B-9397-08002B2CF9AE}" pid="16" name="Reference">
    <vt:lpwstr>Man Pages, source code</vt:lpwstr>
  </property>
  <property fmtid="{D5CDD505-2E9C-101B-9397-08002B2CF9AE}" pid="17" name="ScreenSize">
    <vt:r8>1</vt:r8>
  </property>
  <property fmtid="{D5CDD505-2E9C-101B-9397-08002B2CF9AE}" pid="18" name="ScreenUsage">
    <vt:r8>1</vt:r8>
  </property>
  <property fmtid="{D5CDD505-2E9C-101B-9397-08002B2CF9AE}" pid="19" name="ShowNotes">
    <vt:bool>0</vt:bool>
  </property>
  <property fmtid="{D5CDD505-2E9C-101B-9397-08002B2CF9AE}" pid="20" name="Source">
    <vt:lpwstr>Samba Man Pages, and various other documentation included in the samba source code</vt:lpwstr>
  </property>
  <property fmtid="{D5CDD505-2E9C-101B-9397-08002B2CF9AE}" pid="21" name="TemplateType">
    <vt:r8>1</vt:r8>
  </property>
  <property fmtid="{D5CDD505-2E9C-101B-9397-08002B2CF9AE}" pid="22" name="TextColor">
    <vt:r8>0</vt:r8>
  </property>
  <property fmtid="{D5CDD505-2E9C-101B-9397-08002B2CF9AE}" pid="23" name="TransparentButton">
    <vt:r8>0</vt:r8>
  </property>
  <property fmtid="{D5CDD505-2E9C-101B-9397-08002B2CF9AE}" pid="24" name="UseBrowserColor">
    <vt:bool>1</vt:bool>
  </property>
  <property fmtid="{D5CDD505-2E9C-101B-9397-08002B2CF9AE}" pid="25" name="VisitedColor">
    <vt:r8>10040268</vt:r8>
  </property>
</Properties>
</file>