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4654-EEE7-404D-9CA6-6FC9A4194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AC24-6A56-47FA-8B93-509ABC49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D669-6447-4825-BC90-7FE6B2107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1825-DF57-41DE-AC46-110CC3C14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C9FB-CDA1-438E-9016-2EFE9778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FEEE-08C6-432B-97CB-FB451B34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156A-4BC5-4C1C-A602-66820E41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77DA-DC70-456B-9497-0F63942E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21FE-93BF-41F8-BA9F-3E38B89D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C57E-0D8E-4044-BCBC-250F0BC8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8DD1-4D1D-4283-9CBE-03B34764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BB47-AD52-410B-AF45-BD5B17C6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B070-E8B6-42A3-A96B-C358FBFDA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5-05-15T05:31:27Z</dcterms:modified>
  <cp:revision>5</cp:revision>
  <dc:subject/>
  <dc:title>Слайд 1</dc:title>
</cp:coreProperties>
</file>