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51A229-1B1A-4EC6-93AD-A31473A216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303EA4-2A4A-4CD2-9B65-57F0E4D158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8E2AAE-4E54-4985-AF29-372374606F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F13C89-639C-47F5-AA9A-02E1EC20850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391DE0-69E3-41DF-9364-4A49C1CB51F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BBEDCB-C528-4D86-A890-B4B64983BC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231662-2EBF-4EAA-A75E-F686362BB7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17C92-5536-4240-9075-B7267B5CC4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D37584-6BE5-4A23-AE9E-BD039961AC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7320F9-5978-4424-860D-E4B903BC3A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2AD796-DCB4-49AD-BF7C-B89733E3DE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5033A8-497D-45FC-8B5C-B30C35AC59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E3E66-7B31-4807-9D44-C83BAD1E27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236232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24160" y="2133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200400" y="2133720"/>
            <a:ext cx="380880" cy="609120"/>
            <a:chOff x="3200400" y="213372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3295440" y="213372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390840" y="230760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324792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39084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200400" y="2438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Document"/>
          <p:cNvSpPr/>
          <p:nvPr/>
        </p:nvSpPr>
        <p:spPr>
          <a:xfrm>
            <a:off x="655308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515280" y="21589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019920" y="2158920"/>
            <a:ext cx="380880" cy="609840"/>
            <a:chOff x="6019920" y="2158920"/>
            <a:chExt cx="380880" cy="609840"/>
          </a:xfrm>
        </p:grpSpPr>
        <p:sp>
          <p:nvSpPr>
            <p:cNvPr id="51" name=""/>
            <p:cNvSpPr/>
            <p:nvPr/>
          </p:nvSpPr>
          <p:spPr>
            <a:xfrm>
              <a:off x="6114960" y="215892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210360" y="233316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06744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21036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19920" y="24638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3683160" y="2247840"/>
            <a:ext cx="2273040" cy="304920"/>
          </a:xfrm>
          <a:prstGeom prst="leftRightArrow">
            <a:avLst>
              <a:gd name="adj1" fmla="val 50000"/>
              <a:gd name="adj2" fmla="val 14840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10666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05240" y="1498680"/>
            <a:ext cx="343080" cy="8128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05520" y="3978360"/>
            <a:ext cx="685800" cy="76176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76920" y="416556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648320" y="4359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42670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553080" y="3733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78640" y="377496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Delegation at Pa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75360" y="4510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556320" y="4586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10280" y="2819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791320" y="42670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276720" y="4114800"/>
            <a:ext cx="501480" cy="1201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438280" y="5334120"/>
            <a:ext cx="152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it for the Correct DS to App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876920" y="1600200"/>
            <a:ext cx="3200400" cy="4038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38088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Child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62320" y="4038480"/>
            <a:ext cx="1676160" cy="2133720"/>
          </a:xfrm>
          <a:custGeom>
            <a:avLst/>
            <a:gdLst>
              <a:gd name="textAreaLeft" fmla="*/ 81720 w 1676160"/>
              <a:gd name="textAreaRight" fmla="*/ 1594440 w 1676160"/>
              <a:gd name="textAreaTop" fmla="*/ 81720 h 2133720"/>
              <a:gd name="textAreaBottom" fmla="*/ 2052000 h 2133720"/>
            </a:gdLst>
            <a:ahLst/>
            <a:rect l="textAreaLeft" t="textAreaTop" r="textAreaRight" b="textAreaBottom"/>
            <a:pathLst>
              <a:path w="21600" h="27495">
                <a:moveTo>
                  <a:pt x="3600" y="0"/>
                </a:moveTo>
                <a:arcTo wR="3600" hR="3600" stAng="16200000" swAng="-5400000"/>
                <a:lnTo>
                  <a:pt x="0" y="23895"/>
                </a:lnTo>
                <a:arcTo wR="3600" hR="3600" stAng="10800000" swAng="-5400000"/>
                <a:lnTo>
                  <a:pt x="18000" y="274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62320" y="58672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895480" y="5829480"/>
            <a:ext cx="7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52480" y="2209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5041200">
            <a:off x="2871360" y="3536640"/>
            <a:ext cx="760320" cy="217440"/>
          </a:xfrm>
          <a:custGeom>
            <a:avLst/>
            <a:gdLst>
              <a:gd name="textAreaLeft" fmla="*/ 118800 w 760320"/>
              <a:gd name="textAreaRight" fmla="*/ 665280 w 76032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9880" y="4191120"/>
            <a:ext cx="609840" cy="228600"/>
          </a:xfrm>
          <a:custGeom>
            <a:avLst/>
            <a:gdLst/>
            <a:ahLst/>
            <a:rect l="l" t="t" r="r" b="b"/>
            <a:pathLst>
              <a:path w="384" h="144">
                <a:moveTo>
                  <a:pt x="0" y="0"/>
                </a:moveTo>
                <a:cubicBezTo>
                  <a:pt x="192" y="36"/>
                  <a:pt x="384" y="72"/>
                  <a:pt x="384" y="96"/>
                </a:cubicBezTo>
                <a:cubicBezTo>
                  <a:pt x="384" y="120"/>
                  <a:pt x="192" y="132"/>
                  <a:pt x="0" y="14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69080" y="532116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09680" y="1752480"/>
            <a:ext cx="1447920" cy="1447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09680" y="28954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629080" y="2857680"/>
            <a:ext cx="72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Document"/>
          <p:cNvSpPr/>
          <p:nvPr/>
        </p:nvSpPr>
        <p:spPr>
          <a:xfrm>
            <a:off x="2514600" y="4343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4956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01720" y="2514600"/>
            <a:ext cx="9144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1766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6440" y="1778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4600" y="226044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1.5 or 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2300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15Z</dcterms:modified>
  <cp:revision>154</cp:revision>
  <dc:subject/>
  <dc:title>Slide 1</dc:title>
</cp:coreProperties>
</file>