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18920"/>
        <c:axId val="58492642"/>
      </c:barChart>
      <c:catAx>
        <c:axId val="52118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2642"/>
        <c:crosses val="autoZero"/>
        <c:auto val="1"/>
        <c:lblAlgn val="ctr"/>
        <c:lblOffset val="100"/>
        <c:noMultiLvlLbl val="0"/>
      </c:catAx>
      <c:valAx>
        <c:axId val="58492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18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3BC-53B7-4676-83AF-6CD5EC70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3EE-5D70-4D15-9B2C-B939FD3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BC2-1AD3-4599-AADA-CB21CBD3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8F6-F780-497A-9C0A-118DE674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F8D-CDF4-4637-A721-00088E1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4A9-7E89-4EBC-97B9-C52A914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6A2-3DE0-4550-8360-56B6D316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9DF-21CF-421E-AAFF-BC882E2A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1EE-8D8D-458D-AA43-B3811D2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846-1F22-45F1-90B1-17D0090F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1C1-4311-4E4F-9F6A-BC8E1B4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D95-F6EA-4222-BCCC-2C00D16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32279-9CD2-4BC3-9F3D-BFF5A0CA82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