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71567"/>
        <c:axId val="20413700"/>
      </c:barChart>
      <c:catAx>
        <c:axId val="31671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13700"/>
        <c:crosses val="autoZero"/>
        <c:auto val="1"/>
        <c:lblAlgn val="ctr"/>
        <c:lblOffset val="100"/>
        <c:noMultiLvlLbl val="0"/>
      </c:catAx>
      <c:valAx>
        <c:axId val="20413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71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C36-98F9-480F-8ABC-4E4DBB71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0BD-F244-43CF-AD22-5E235E44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EC1-5579-43D6-A33F-4A52662E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3A8-AD9E-4C45-8EC1-E0C81179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23E-5F05-45D3-A72B-0556BBAE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7BB-A8DB-4BE1-A97E-AE0A8540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D44-3944-4344-8AD2-12D86F0E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976-08B9-46F5-99C9-16E2CAA8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A0B-4810-492F-B2B4-1BF096F2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4F0-0757-4696-A342-22949D87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158-38B0-4592-A594-E2B22CA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CCF-BE76-42F3-A8E7-A04E7A2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6652D-C744-473F-A4B9-6EB496947A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