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99720"/>
        <c:axId val="59900347"/>
      </c:barChart>
      <c:catAx>
        <c:axId val="74999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00347"/>
        <c:crosses val="autoZero"/>
        <c:auto val="1"/>
        <c:lblAlgn val="ctr"/>
        <c:lblOffset val="100"/>
        <c:noMultiLvlLbl val="0"/>
      </c:catAx>
      <c:valAx>
        <c:axId val="599003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99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346C-F13B-44E4-8763-8A995F44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819-06C5-4451-BE7E-5A6DFDEE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EDFE-F4EF-4DDA-B744-286905FC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DFD6-7E45-4A2E-83CE-55CB1543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147-FDD5-4C8D-9F2E-1881BAFD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3A30-127B-4E33-A315-AA0D2A1B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349D-5EF1-44D6-B1E6-236210A3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B7A-F089-4753-B8F3-76220C6A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DEC6-017A-4E61-A757-5C712EBB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8D4A-86EB-46A8-9951-98A807D8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DA01-97DB-440A-B12C-77D0C44A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A6F9-B26D-4187-AAD2-2B32F6D0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451BE-738A-4A36-B2D9-EEE15AB80D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