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30257"/>
        <c:axId val="856765"/>
      </c:barChart>
      <c:catAx>
        <c:axId val="58130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765"/>
        <c:crosses val="autoZero"/>
        <c:auto val="1"/>
        <c:lblAlgn val="ctr"/>
        <c:lblOffset val="100"/>
        <c:noMultiLvlLbl val="0"/>
      </c:catAx>
      <c:valAx>
        <c:axId val="856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30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90A-9EA3-4D70-A2A8-611855B8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69A-DE52-4C37-932F-5B6135DB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03B-922D-417E-9300-1F52A021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12E-713E-458E-A8DC-53C9FDDC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267-7F90-444A-B330-2A2C92E5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6D0-8775-4D35-AA56-FB0DED03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93A-6557-4339-9DF7-048EF0C6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740-759F-43DF-9022-8CA2DC2E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60B-1AA2-455D-A464-4BBFD193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AE2-8312-4E23-8A54-E3565215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8D9-76BC-4E46-B765-F6BBFDB5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640-1BEB-426B-9907-47D51B7F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C59B6-AA8C-4961-A5DE-FCD05E7E0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