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54698"/>
        <c:axId val="46109524"/>
      </c:barChart>
      <c:catAx>
        <c:axId val="57546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09524"/>
        <c:crosses val="autoZero"/>
        <c:auto val="1"/>
        <c:lblAlgn val="ctr"/>
        <c:lblOffset val="100"/>
        <c:noMultiLvlLbl val="0"/>
      </c:catAx>
      <c:valAx>
        <c:axId val="461095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546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D395-1894-43F1-87C7-59BCC24E9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01E9-B170-4580-8A20-4DD3ABDA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DACE-B5E7-41B8-8E08-75E013192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025E-3E3A-49C5-A5B2-A9EA7BF1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C325-C6A5-42AA-9E72-82B8E3DC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15F3-C98F-44E7-A7AB-1E3836CC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CBF5-5DE5-4782-B780-0C5EE0B6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B177-0592-494C-B1DD-C13055B6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3A1F-23F1-42BC-A33A-99FFA7DF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4F50-5276-4563-B81C-9E17FA7A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BDF7-C473-4C7D-8705-EF64E7BE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39C1-0808-412E-8C17-2AC249AC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51384-FA2E-416A-AFE0-3FFF97F50C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