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16759"/>
        <c:axId val="45389601"/>
      </c:barChart>
      <c:catAx>
        <c:axId val="34716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89601"/>
        <c:crosses val="autoZero"/>
        <c:auto val="1"/>
        <c:lblAlgn val="ctr"/>
        <c:lblOffset val="100"/>
        <c:noMultiLvlLbl val="0"/>
      </c:catAx>
      <c:valAx>
        <c:axId val="45389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16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9B25-C105-4FAB-946C-C2BAD106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0B6-1BFA-4E84-A41A-C141A0A8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60AF-9BCA-4EEB-9234-A32782C3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944-C67F-4B35-A07B-BCE76E18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EC11-DEA3-4053-B82C-7820A203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5F6-0F90-4B12-A86C-6F935E3E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E86-7375-4B78-8C5F-BEB55828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CF5-8A57-47CA-B4C4-EA5CBFD3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AC4A-FBE8-4B54-8752-0D87BE30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E53-37F3-4A90-8583-9F405C94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B110-ECAF-44F1-83C1-2F1455E4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5454-74CA-42C3-82C3-372C5D5E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8157A-9E0F-4C5C-B763-248BC45FF9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