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49744"/>
        <c:axId val="28312930"/>
      </c:barChart>
      <c:catAx>
        <c:axId val="15449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12930"/>
        <c:crosses val="autoZero"/>
        <c:auto val="1"/>
        <c:lblAlgn val="ctr"/>
        <c:lblOffset val="100"/>
        <c:noMultiLvlLbl val="0"/>
      </c:catAx>
      <c:valAx>
        <c:axId val="28312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49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81F-5508-4871-A10B-8F48C1CC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2E3-CF3E-4C0E-9BC0-7F9905FB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B2D-7020-403E-B3D9-3A3B4266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C24-6881-46EC-83CA-5349CF1B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8686-733F-43A4-87D2-6B4DC35F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DA8-A3A1-423A-B9EF-B17067EC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201-0F98-4369-B00A-79098621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4EC-F5AD-4697-9C33-B06B5F39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B70-18D7-4915-A0B9-622072A8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EBB-E81D-4D50-88EA-6157C7C7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122-3F63-4169-8AAC-EB6A16A3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8F9-11E8-4ED7-8498-F16EC4ED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801BA-7C8D-4CCF-A8FB-4F7926935F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