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4DA6A0-1CA4-4260-B033-DC0324C287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2D63C4-CE50-4461-917A-DAB566C097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A08F9E-8E37-453C-8FCD-65BE11E477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1EB48F-B6F4-4592-9E5A-99AE090D62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286D09E-928A-440D-877F-6398F9DF489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0392FF-7D96-438B-9B49-C17116F6CF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EAF249-9966-48D8-8053-6937D526D3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08D571-1BE2-449B-BA51-40EA926F98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D2C971-5505-4376-B4D5-896CBA62C8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9DB040-28C0-4F04-8752-76FCC57590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E38AB3-F2E2-4F31-A63E-FEBE804747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8D114B-6F51-4082-B5A3-0D47F496F5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7048E2-2BEA-4CAC-B468-76C12C0EBF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0EF058-5185-47AE-AE35-53F38D5C48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73319C-8F0A-4A62-AC68-6FF45D805C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24DDFFD-4162-4641-BE25-655E8823A05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06372E8-E176-4DA3-B4B6-CBB33EE6FF5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69E720-C66C-4FCC-8A38-85F8505FBA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A18FC6-CD30-48CE-8F46-E302959B4A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25C849-E723-495D-8A83-0468FFB8CA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BD2AB1-6208-4DA8-B69E-E58720C60F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359EA8-A1A7-4977-B77B-74BEC266FC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2611FA-E5E9-44AC-941B-5E4FD09F2A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B3C592-E1C7-44F1-B45D-CDE1792E7F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F1F132-DBAD-446D-B4CC-94180B5AFD4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43464C-6A3E-4049-972F-FF585E25AAE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A7AA38F-6578-4FDC-B294-E0437B7F516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8ADC75C-976F-4C8A-B9C0-62E767E4553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A2DD37-B050-45CF-B8F2-2A0252788F94}"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2E05D5-9906-4E76-B3CE-BED8161BB639}"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ED9EB2-BF12-411B-9D99-5D575F8CE3A1}"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531B18-9A35-4154-8CC8-B24956919FF2}"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CE5783-25BD-47E8-BD4A-7E83FC2963E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0D53DD-EF8E-4DC8-9470-A91B2573705F}"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225EFF-A25F-45A2-B7E4-C52FA7EEB28C}"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FCCC1C-4E87-42F1-8B2A-6B86CEB38E0C}"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D63369-99B3-45D1-B1C6-5BE7F56480B4}"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35F266-5A8B-41BE-9BDE-FCD4D682278D}"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9981B4-9666-4B1E-9582-92A0A9D0DA9D}"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5A14E5-A9AE-4579-A343-9276715C2321}"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3D16E5-2F7E-4B53-8E46-527E264419D3}"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451D96-7E13-4B0C-8386-DC253820AAAA}"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FF50CA-0369-47FD-AFB3-3497CE39FC8C}"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BB6DC0-36F9-43A7-AA99-17480E84C396}"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2F6206-6C7D-471D-9C6B-DA1F67A4A793}"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52AAC9-BF1C-4690-AF3E-45BCC9A2BDA2}"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F74680-5D67-4C0D-ADAB-815AAC539B00}"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618356-6D62-41A5-B004-38615A2A0698}"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4A87CE-63D0-4AC6-8DAF-16A483E8071E}"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86EF04-810E-4799-A26C-A5115D4244FF}"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3B7910-2912-440D-8C80-A1F75EF1A6A0}"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BBBBAD-C187-426B-A4D3-28407B4074D0}"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104918-AC83-4509-8B01-A50D5E8E9C34}"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F213010-2431-4ED3-AF9A-880BD1861394}"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C0F846-6BDF-4302-AD9D-F51CCE526F45}"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A7D018-C7FC-4A3E-B400-225597128390}"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136464-4E54-45ED-A4BF-A3F8924FB4F9}"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1D2E39-A866-4A24-B505-59A2018E2DAE}"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E2020C-C0E1-40D0-9840-821B5B92E05B}"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0C10AF-A3F7-4BE6-A4A2-77D9ACCFAE27}"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F619C9-005A-4906-BAA0-23667E7ABA64}"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533F8A-82C5-46EF-B0F4-F954B7BF2FB1}"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F9FF1E-C58F-4383-827C-60BB06C6B3AC}"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DBFE20-B567-420B-BEEF-D45034D0AC52}"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4A3A5D-AC35-4E19-B731-1A749F62CF80}"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27E9BC-EF2D-4843-B5F0-309BD65C51BA}"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8F2D0E-2B85-47D7-95AB-BEBD98410AA4}"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D288D3-93DA-4B1E-8E53-3B6ED506A196}"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D05A2D-E481-49A7-93D0-629ECC892AAB}"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DEE1C7-0F54-4910-B9D4-7151B3210199}"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400E06-6891-407D-B5B3-B9A5DBA68DFA}"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267284-FD7D-44D6-9E9A-9E99AFDA9090}"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2886C9-5F8D-46A5-860F-0AEF9EAFD567}"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2FB9D2-BC12-434E-9BCD-F7E5AE4CB4B2}"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0FCDD20-5AA7-48B6-A925-2C6FA18C78FC}"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905828-3B24-4F13-9401-A86EE3FC368D}"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7475DD-A84A-457B-880B-1719D0AC9646}"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107D375-06B2-43B6-8DB9-D8816E6CC313}"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221FA1-2A33-4123-9279-B247C46F1C1F}"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A53395-AF7C-432A-AB57-FA4E4BA47566}"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6D66D6-5109-40D3-B4D6-48346D5EC621}"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1CE596-79CF-47B2-B9A4-909716C8C1E8}"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0F6650-EE30-4095-87D3-5E286B51A8B7}"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5B3C6A-48AE-41E3-A64D-F5B369140999}"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14BB9C-BE02-4241-B03F-0CFCDBCC231F}"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51732B0-4714-4712-A752-4EBF7A053FBA}"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83A3EB-BA1C-4366-865B-71AF7DBC2E9C}"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E562D3-A0D3-46FC-B2ED-1C686B3F30FA}"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2A621C-A91A-4217-8262-0564DF654D4B}"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E3776E-F2FC-4BF6-9380-22FF5552AD7C}"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4CA900-332B-44C9-8C61-9EDF269B7528}"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D8014B4-2533-4D41-9E7C-F640DDC61112}"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DCCD24-6437-47AE-9C5D-7AC8568CF13B}"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8A71A0-62F4-41CE-81A2-9C529D4D7111}"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0992BC-2DDB-4D62-860D-BB0EDB26761F}"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438167-BD41-4255-816D-9910488CD2DC}"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9F1C48E-87EA-45AB-BF73-22A5A20A46DF}"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7AB875-E4A5-4795-B3A3-6AB972782F40}"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455ED5-F302-4879-AE03-4E33D2AB9905}"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CDA5EB-BC44-41CF-8B9A-9B4AC9EB33E8}"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BD65A8-A7CF-41C2-A416-0A4000BDA03B}"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EE34A0-14AC-4938-B069-E9977E03591C}"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BFC79B-0811-41AF-8FC7-756A63C556CF}"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D2F0D4B-3932-4F03-B7E3-DF92C9E86B05}"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228E50-A7B9-426D-821D-2EAF4019DFB9}"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AF4C25-5CA6-4DCB-AB07-51250F18F01E}"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0EC6E7-F144-46CA-A946-5D34DFE5322D}"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948C519-8F42-4EDD-A018-45C4849E2874}"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6B1568-E3AE-4294-ABBF-46D1270D16A4}"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979A7B9-41BE-4E86-AE3D-F2FC0A6DDDBC}"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A50DB3-5445-4608-8723-9EC21669BB46}"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D22EB6-6693-4F45-9DFF-A251708B1539}"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910E87-E7D1-46C1-B57F-77E497C2E3D0}"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FC7C7D-AF62-4873-B9CC-11D9E896A5B7}"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FA15F0-9A8B-4B20-9021-09BCA63C3105}"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3F5CCD-B357-4605-B76B-72C902687ED9}"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C6CA31-5D8B-43C8-97E2-04AE7B339863}"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56A187-009C-412E-8DD9-7DAE82A48F48}"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0C5C6B-973A-4F13-81BF-736CB3F421D6}"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402572-7800-4EF2-BC13-CDEC285DFB4F}"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28764F-7AB9-4325-896B-F596F9F92058}"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D395EB-1BD1-4C7A-BABC-16C70B6CD654}"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67E85F-BA3E-4877-9FAC-9C25725AF8F3}"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E9B31A-DE06-4E53-B9AA-5189ED2489C5}"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1DDB65-2213-4438-995A-32A6F052F617}"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98FD283-A2A5-40E4-A57C-CD09B1AE0BC4}"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D06962-BD70-48EF-A4FF-20C5C87B3D67}"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1C349E-F793-4904-A5CB-DAB84110E35C}"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6FCD7C-3A53-4233-BDCE-2FEA08912903}"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F28671-E418-4EA3-A130-ED0E3B0D6EE6}"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7952F3-1C44-455F-A0CA-AEAF12488B82}"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78601F-4179-4545-A3D2-E8AD55F967F2}"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2DE749-E50A-46E1-AFAA-BA2CF8F640E0}"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777303-A0CA-414C-A426-FBD82D1D2F27}"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ABE21C-2E6F-411B-90D6-FCA598DF5A64}"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8BFB0A-7852-443E-BDB5-9B6220D95DC3}"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C54430-40CB-4DFA-8BB1-52FC38B2C041}"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534984-790D-486C-A077-90A0060ADD5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BBD81F-290A-4884-A67A-B892684E9DC5}"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DC7CF3-373A-44D9-8243-BDC92D0AC668}"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88D11E-4DB8-4A81-B846-218CB4D1C9A6}"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12D68C-A3C0-4C84-AA4C-C0308A57FF4B}"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125D5D-CCD7-4763-B85A-ACBBE9CFF05A}"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25F280-487C-4B2C-85B8-68711086CD2A}"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758539-6C04-4C98-A336-60DA513B01E1}"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B63C70-6433-4356-AB26-8D665365AFEC}"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46032A-F052-450C-9E24-230B23FD9FE5}"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428686-0BDE-4F62-9889-7B913BB87368}"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F19EC2-9E6E-4077-BDDE-181446472603}"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A08A44-DBBC-4F36-9F9A-9C2532C3C72A}"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7DAABE-3C8F-4BB5-815B-48285FA91924}"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A8957E-D4BD-47E2-B1AA-C74E3EAD4996}"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AD7603-EAD3-4FBF-AC36-DBB0D2450182}"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4F3F850-FAE9-4825-9C19-282479F4C3EC}"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E9F2A0-4D02-4548-AD65-968F23F9188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EFEC2D-8D73-4151-BFA2-7C27E623447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D0486D-729C-4201-88FB-96D0FB13999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043276-CA00-42A3-A6A4-F3A1AAEB512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3D03D6-F037-4B41-9047-470A2914296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FA4FF1-906B-4F53-8CA1-A5BECD6F7B4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644FEED-937A-48BA-8894-83ADB9353CE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042C05-4D71-422B-ADC2-8024D1450A4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F2CB3B-D2E1-48F9-A813-3F8B8D1A35C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0041ED-1889-4453-A999-D619B2AA613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6A764B-9BE6-4DB3-911C-369DDC67884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B3BE11-2D9A-49CA-AAF5-F2BB0FBE45A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024721-1FDB-433F-AA07-DCC8B42353E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DA00B0-718E-4571-8FDB-867CA8332B0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71E4BC-8253-455D-85D1-26F628FDFE1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22A2DB-F327-4A30-8C99-116BBB625DD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94C64F-94CC-4E49-85FC-868B97074E1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779CB3-7987-4ABD-AD06-AEA6DBAAE9C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06B1BD-10ED-45CD-B84C-7849DB06CB4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AEC164-1CB4-4330-99F4-F25BA48E3AA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CBC71F-8481-4BC1-BEE8-E87508254F4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538BF2-616E-4BA7-8632-F390E70CC8A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86754E-EAA1-410F-814D-853DAB5A404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923E56-C62B-4594-B870-2428E5093DE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3712A3-1018-47D1-A791-CCF054691E4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DB23B2-A8D7-488F-A54D-562AC8161E3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2FF9EE-4895-4FDA-983C-13974CBAB19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23253B-3A00-4B4D-8917-8D5B88CC11F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22EBCE-1F22-4575-AF63-D3FF9898C2F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000138-D62E-4AE7-B58C-C8ACD98A938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361CF0-F689-4CE9-BB07-66269357A42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FA9123-A7FD-46D8-8FAA-EAA02D68FB4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9D03C6-605E-4996-9488-64F9A5FEF92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56A136-AA57-47CB-9B7E-AE1A88452BD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25EE2C-BE28-4267-A2B8-0E946F9DFE8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912A88-7772-4E02-AA11-9C7A8419C1D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4A10DC-C112-40EE-A704-91687D8ECAB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735A90-AE94-47A1-8C58-FB0247B1D8D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3DE406-4E0D-4512-A082-F88798E7E6D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2827BA-7B77-41D9-BB1A-81D9C31EE69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7843E6-8538-48BA-8A60-A2214440434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7FA6FD-859A-44D8-8FDD-0D1B62F7390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796096-D460-4EDC-AAFA-6CF148D13598}"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52C58A-CAF7-45A4-A57D-879CBE13BAE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13B4A5-B2B1-4627-B8FD-6455639A2A78}"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26C56F-B3F5-4F22-B784-8E9B1B9655FC}"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FE85BB-4DFC-462C-9684-5E94F19F6A1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6F01CE5-8D81-4BA2-AAB7-6CEFE4BC1D3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C23B51-B049-4A0B-A16A-D3EDB06DEBE9}"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BC4F0F-44D6-4FD6-96CC-4CA5F192470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A5C563-4C98-4143-BCF1-FF4828C633A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303B2B-349C-4478-AE09-29BE847F78DA}"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49F03A-74AE-40DD-AD1B-E1EA52A7A53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D8CA57-387E-4E47-8806-2AFDD95CF8E6}"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CD158F-E71B-4A7C-969C-1CB09484F17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86F88A-4F49-492A-BCCB-8CF9E1E5D5D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703CD93-A38E-41B9-A4C8-C3A683BA229A}"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C6BF74-D284-4381-99F2-4507C1D997E9}"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46B952-2E54-456B-AC75-023C5622FC5D}"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BB53B5-B790-4980-8576-C114BDA001E8}"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4E4BF6-CCC2-4F55-A4E6-1BC87D93CFB3}"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E5A2DA-7256-44E5-AB20-D76E921C1561}"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10A440-5438-4DD0-83AC-26A11007613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B66937-8135-4EE0-97F4-9FA5A2262371}"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A12B56-8F00-47EB-B68D-BDA3424D7CF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0B1E58-F737-4E9F-8873-C4EE690E9798}"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0203C2-E0F4-42DB-8D52-ABF32D287F7E}"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F61378-BDE8-4906-A46E-E7D0E2156D85}"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CFAD2D-6A73-4528-87F2-BEB138F2B2DC}"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6BFBAC-FBD9-4104-B0CE-4490E98F33A7}"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B238C3-EC85-4D37-B350-1B2A9019C5BE}"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13054FE-CAB5-4D52-82FD-A3C2EEA77BFB}"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B93EA7-BC69-44CD-A609-04506EB75E50}"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F630E0-52A7-4EAB-93DB-96371FAD3A3D}"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503414-8FAF-45EE-B0A6-616794B92B07}"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7BE4D0-992D-4E20-B3D0-B6AB9FF7A549}"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1D63DD-B9D5-4A7C-BDB7-77AF4E3BA82C}"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125F4E-D38B-4508-9D73-A9451E562E07}"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F398AF-7C86-44B7-BD4F-F5A4A15907C0}"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C77F20-7947-4BC7-A6EA-7090EB7A407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C8944A-6730-4789-9063-51693004BE72}"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E42142-E8E3-4A44-A335-0A166566AEC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0C5588-0FBD-46D3-A4CE-81539DE253E7}"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7BB923-F55F-46DB-BFAB-D29FC3277527}"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B09E34-7F8B-4466-A265-9C1D61C8B024}"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