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1062881"/>
        <c:axId val="86830082"/>
      </c:barChart>
      <c:catAx>
        <c:axId val="3106288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830082"/>
        <c:crosses val="autoZero"/>
        <c:auto val="1"/>
        <c:lblAlgn val="ctr"/>
        <c:lblOffset val="100"/>
        <c:noMultiLvlLbl val="0"/>
      </c:catAx>
      <c:valAx>
        <c:axId val="8683008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06288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2D6A6-8DB7-406F-9127-6746F1419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A1EC2-E10E-4062-BD6F-F388411D2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DBE23-2CF4-4E27-80B3-9CD97C409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2C2F8-CFDE-4B2A-90F0-CAA6E5AA9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BF0E1-3716-4CAF-A509-044E18435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6EF79-BBA4-4B14-A244-A4AF091A5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40535-8640-4C12-8E72-6E10A65B0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1B07E-B9A3-4A06-89A9-EB829A9FD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03DC1-4F07-424A-B9FF-693261463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46B45-B080-4713-B980-D393DB779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B9959-FAAA-4F7B-B57A-E24B63E1D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FD2EA-BCC8-4C8B-AA9D-12157F96B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7AA0E0-9AE7-49F1-99F5-07583A5B971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