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8198"/>
        <c:axId val="75188197"/>
      </c:barChart>
      <c:catAx>
        <c:axId val="2848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8197"/>
        <c:crosses val="autoZero"/>
        <c:auto val="1"/>
        <c:lblAlgn val="ctr"/>
        <c:lblOffset val="100"/>
        <c:noMultiLvlLbl val="0"/>
      </c:catAx>
      <c:valAx>
        <c:axId val="75188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4C4-16CF-401F-B013-AE86F3F8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9F1-CCBD-4B7D-99EB-EDFF3C3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A39-FFAB-4CA7-978F-78613827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0B4-49C5-4F7C-9713-AE892432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CF-527F-46D3-AC4B-BC3D9D5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4C-D2C8-47EF-A522-D112629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381-68E0-4D09-8D3D-9D1D1F55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5ED-8506-49F5-893D-A57E5C2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6B9-8991-4AFA-A31D-71830ED1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EFC-D18C-4BDD-BA47-5F5DF97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130-5A33-4647-9EB7-9F2ADC7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558-1096-4FCE-9139-A77B8FD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44F4-255F-4F8C-BAAD-03CAC0946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