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52706"/>
        <c:axId val="21047846"/>
      </c:barChart>
      <c:catAx>
        <c:axId val="76252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47846"/>
        <c:crosses val="autoZero"/>
        <c:auto val="1"/>
        <c:lblAlgn val="ctr"/>
        <c:lblOffset val="100"/>
        <c:noMultiLvlLbl val="0"/>
      </c:catAx>
      <c:valAx>
        <c:axId val="21047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52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56B-2167-40BC-9CD8-A6D34818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275-39B2-4BEF-A47B-6578B4B1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0AD-A0FF-496D-8478-5C3DC3BE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4FF-B75B-46CC-BB7F-5CA07EC9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52F-5E53-4CC1-866B-3727DBC7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86F-352E-490C-B729-201E5E25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415-9AAF-47D6-A9A4-8AFBCDA3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F48-9899-4CCF-9370-C6DE7482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E13-4D4A-40E7-A821-40941A8A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739-DBDB-43DC-9965-07B02993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055-BE98-406A-9322-C15E2D20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55A-2849-4BCF-B7AB-6AFB05B0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10005-008C-4ED2-867E-882DF6D471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