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160737"/>
        <c:axId val="25807398"/>
      </c:barChart>
      <c:catAx>
        <c:axId val="361607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807398"/>
        <c:crosses val="autoZero"/>
        <c:auto val="1"/>
        <c:lblAlgn val="ctr"/>
        <c:lblOffset val="100"/>
        <c:noMultiLvlLbl val="0"/>
      </c:catAx>
      <c:valAx>
        <c:axId val="258073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607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8CA9-6B5E-4A57-BBD8-E755D8119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1570-EEF0-48F1-8189-AD480DB7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FD07-A357-4015-8DC8-12FA5052A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6FE7-8989-4915-BC0B-B5CAC0597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48DE-89CC-4DF8-BB85-733B877E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0E1C-BC28-4A46-834C-4D1C4E5E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B330-30DD-44BA-8E1C-E1D29CA0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BB39-E189-4E1A-B770-79AE58C5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2639-A7BF-4578-B417-2AB3C5B4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AD25-E65D-4F0F-B4B0-A717B888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174D-F55E-47C8-A4AA-20F65908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71A8-C92C-4BAA-9A07-40A8808A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D2FF9-B9BA-4EF7-BCCC-0531E890C6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