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5454145"/>
        <c:axId val="95586670"/>
      </c:barChart>
      <c:catAx>
        <c:axId val="8545414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586670"/>
        <c:crosses val="autoZero"/>
        <c:auto val="1"/>
        <c:lblAlgn val="ctr"/>
        <c:lblOffset val="100"/>
        <c:noMultiLvlLbl val="0"/>
      </c:catAx>
      <c:valAx>
        <c:axId val="9558667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45414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D31A0-3DE0-45C4-A6AD-00F96203A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E335F-1DBB-43EF-9FC9-3FDF48D7E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D0E24-2237-4444-84DF-292248DFD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769D9-8FE0-48E6-BED8-4717CD3EE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D1CD1-39C8-481A-B52A-A78477E34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59971-97BB-414F-B985-7FFC92050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C2869-85FC-4BE1-9663-B81A3E238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F84D9-7FF8-4771-9701-ABE32A7B8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8B641-F4CF-41A1-B95D-7485CEEDC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17D9A-A92C-42FE-91BD-50840F4E1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1D563-6F6E-4461-9CA0-ADAEB108B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347A1-3B74-4DE6-8A78-A6DD02D29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E5908E-9278-49FE-8DEC-7458771C9C7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