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40911"/>
        <c:axId val="97727984"/>
      </c:barChart>
      <c:catAx>
        <c:axId val="26940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27984"/>
        <c:crosses val="autoZero"/>
        <c:auto val="1"/>
        <c:lblAlgn val="ctr"/>
        <c:lblOffset val="100"/>
        <c:noMultiLvlLbl val="0"/>
      </c:catAx>
      <c:valAx>
        <c:axId val="97727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40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113-C616-411C-90F3-B986C4A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538-FB76-4B3D-AD1A-D61ACDB9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399-40A8-4AD7-B3DC-0652D0A3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B25-A78F-4E21-9252-ACB9D17A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494-C7CE-4F59-B829-50E5D0A4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DAE-CEBE-4AA1-81F2-97426699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34D-E59C-41DF-9B19-3B5898D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71F-5852-435E-8540-16AC2F55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43A-94EB-45B6-8832-1B6F17E6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868-F0BC-404E-9074-D1FFF18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186-C73A-4DEA-A7BF-44AC1D7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3D8-3FBA-4C4B-8B8A-15058FA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C0BE5-F26F-4B08-97A6-9E200C9C92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