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022427"/>
        <c:axId val="32337905"/>
      </c:barChart>
      <c:catAx>
        <c:axId val="52022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37905"/>
        <c:crosses val="autoZero"/>
        <c:auto val="1"/>
        <c:lblAlgn val="ctr"/>
        <c:lblOffset val="100"/>
        <c:noMultiLvlLbl val="0"/>
      </c:catAx>
      <c:valAx>
        <c:axId val="32337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2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A236-40C4-4432-B835-BC717DC9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DDBD-E08C-423D-AD17-7BDA1B56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57E2-B27F-4AA7-98A3-F107FC14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4D06-62CD-450F-A841-265E7A54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8A3-8AF6-408D-AE17-03ED2ADB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E79-D217-4BB4-8EE0-4095779F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4182-196C-4EC2-942C-FD4E1E7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D17-FF75-4B3A-93B2-DA7923F2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474B-AC05-4C1D-B53E-01B0899C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0B9-A4C2-4FA6-8EEB-CD2FB274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FACB-39C3-48FC-8D00-7010AAA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625E-08A7-4805-B962-995E805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B54D8-7809-4242-9873-51DA8DD93E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