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90473"/>
        <c:axId val="88647343"/>
      </c:barChart>
      <c:catAx>
        <c:axId val="86890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7343"/>
        <c:crosses val="autoZero"/>
        <c:auto val="1"/>
        <c:lblAlgn val="ctr"/>
        <c:lblOffset val="100"/>
        <c:noMultiLvlLbl val="0"/>
      </c:catAx>
      <c:valAx>
        <c:axId val="8864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90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4BD-FDD3-40D0-97AE-08D3B4C8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1B2-A142-412F-89B6-BED992C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64B-5F0F-4799-B773-2C677097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19E-B282-41DF-8FFB-6FD545E4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01C-C6C0-430D-980B-E3C522FA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28B-9883-469B-A65A-DC613D7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8AF-D301-4378-8A31-58E513E9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67E-4E6F-43B3-B70F-6D36192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E75-A63B-4542-B4BF-59F227F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B12-6DDA-4CC6-A752-885AD87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681-0D9E-4580-960F-AB99186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903-F178-420E-BCD5-DB53D1CE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EFA00-C82D-4104-8C5A-079A5F4A6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